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6D0F-0925-4D17-92E8-F2C2FA77C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60A2-9949-43F2-AFF5-10ACF12C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A42D-8DBB-446D-B605-A9BE63775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2CB66-C564-4C8D-8F7C-228AD53D0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0A45C-BCA9-4E8A-A14E-844771D8B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48B10-65D2-47FE-B6A4-6EF632DF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9C81B-2E2F-4206-A8ED-3E7C1FCE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2BBDC-E639-496F-BFA2-1477B8DD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FDB50-4A21-41E7-BF4F-9713FEC8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DA2F-1ACA-4E9A-A019-AAB5D9C1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9B1F-0C8E-45EC-BE41-9C384014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8859-2EC2-49FC-AAC7-FF044EDCC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D7BA5-C984-49DA-9E61-2AB0A58F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6EAC0-8C03-4EFD-9148-BEE7F47B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9A98E-5FAF-473D-B477-16FCE47C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412F-BDD0-4FF4-85BA-9B5434A73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58E6-86B1-4AF8-B28C-7721F1C4E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E1F27B-E02D-47B6-9697-C04FC3BDF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B53D1-DA56-4DDB-857A-BCD9EC6CF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75C5A-0E39-42BB-84E4-429A465E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C2671-6AAD-4C2B-9A35-07F9EEFD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64060-3E71-4B07-9698-3E84B74F3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E717-5EB2-4094-A6DA-9D4A189A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6C0BC-9FF5-4240-AB38-0E9AB35D4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E1603-F47E-45C5-8C62-F620F61BF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F863E-BF30-4CD3-80DF-09A9D03B6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4B1E1-52F2-4B66-B9EF-B343E04D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C6F55-73A7-4544-BF57-C996F1E33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DC3689-0C61-442B-A422-08A2E2D36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C7D1C-5C9E-4F25-A479-8D7E417D2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C2AA5-0887-44C2-8E2D-03CD518DE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4DDDA-1823-4680-867B-89C2DBEF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C1DB1-1D79-4E43-AC69-4C3F86A7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FDDA-7BA1-444A-BB01-974CBFD9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8F52A-D59C-410C-A9E5-53CD0241F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A879A-0634-4A0F-B328-2BC21617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6BC96-91A4-4AA4-90FF-F42E907A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7828E-3581-490B-96EF-08D55A17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D5CAC-5ECF-4CAF-BAED-0CA457EA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A2E90-C7F2-47A0-AEAF-02EF8472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48564-00EC-4BF6-B1C2-C0881062F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12AA2-253B-4430-A235-BAD192CA3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6B290-0649-4930-96C9-33591AC7E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85663-DF05-4F3C-927F-2E5A4B157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95D9-40FD-419C-9018-05CC580F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3A2F0-9BDF-45A2-8A0D-D0CA62F3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101C1A-7C14-4250-8E48-8D53F122E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5BDB9-82C6-4CCB-9C04-3D1D6AA1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214C4-EB46-4071-B184-A392228D0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4351C3-FB28-406F-8431-A0FEA1183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4ACC7-4283-4926-9CAD-D115039C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70455E-F0D4-4AC9-891B-26C92541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5C4775-F670-4101-887B-551914A6F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EBFD5D-0B2D-4486-B01D-29A659E2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A86A25-5A3A-42A9-B48E-B5DAA3F66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3F79-321C-4347-AA2F-542C4662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BD51D-B408-4C1B-93D1-D87D31BC7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E7F5B-3B9C-4D13-8D7C-B79E1A980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E387A-882F-45A6-8064-BEC5E3D9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1BDBC5-E0DD-4DC7-ACB3-F93A877A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C5377-8CC2-48BD-B869-F189EBC9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4D758F-4EBF-4E6F-AE25-0CC4D4E7E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17BB57-C11C-4492-BECD-6E0F43424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78B5A-B47A-4D40-A5A7-CFB1AC52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7C901-23E8-4CB9-A95D-0661F921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B51E7-EA37-40C1-B5BE-493D66A2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C421-0C4E-4789-A61E-A604071C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DEE5E-73F9-4FA1-B19B-8B8B4253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CB0D9-C8C1-4390-A7D6-A0A37F8FE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A5A12-B927-4422-9A2E-E6188F737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C5D80-0BF5-4BCB-AF46-BEEA9775B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333A8F-0C7B-4FEA-87B8-DBCF1C333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155649-689E-41E7-926F-B7982854A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0203BD-228B-4EE2-A1BF-2854F5BF4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19660D-4AEB-4645-B1C3-D593A50D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A84452-7AD3-4CFA-88BD-AF17D835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FE364-E01E-4FEB-B76C-6650B8CD7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3EF6-BCAB-431E-A3C1-E94B2824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E59700-A081-4AC1-A257-8DA24BE8F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97904-9C98-4FA0-BB06-3E779EB9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D0AB6-7C60-47BF-84A1-CAD70CE8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5E698-C6A0-4091-9A1B-3C7AD352C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F6440C-848A-4A4B-9724-8E37FB0F1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FCA4-FDB3-4641-A9A0-9B73AA16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E8B9-A1AA-4E26-B0EE-5E74434BA69E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2" descr="C:\DATA\マイピクチャ\logo2.jpg"/>
          <p:cNvPicPr/>
          <p:nvPr/>
        </p:nvPicPr>
        <p:blipFill>
          <a:blip r:embed="rId4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13" name="正方形/長方形 13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HGｺﾞｼｯｸE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3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DATA\マイピクチャ\logo2.jpg"/>
          <p:cNvPicPr/>
          <p:nvPr/>
        </p:nvPicPr>
        <p:blipFill>
          <a:blip r:embed="rId4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正方形/長方形 13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HGｺﾞｼｯｸE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円/楕円 15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60" name="円/楕円 15" descr=""/>
            <p:cNvPicPr/>
            <p:nvPr/>
          </p:nvPicPr>
          <p:blipFill>
            <a:blip r:embed="rId5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円/楕円 16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0052B-DCCE-43F4-8348-76BDD49D8E9C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正方形/長方形 15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正方形/長方形 16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円/楕円 1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7" name="円/楕円 1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円/楕円 1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FF1E-CAF2-441F-B5EB-595EECA39DC6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0A36-F33F-4930-B0D1-624DBAF0FD8C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正方形/長方形 15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正方形/長方形 16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7B191-B141-4BD9-80DC-317A6A742D12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01F2-635E-49AE-A260-281DC98D5A63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正方形/長方形 15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7" name="正方形/長方形 15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フローチャート: 処理 16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フローチャート: 処理 17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E40B-399E-4E3B-9012-CB73E1776734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71720" y="1714320"/>
            <a:ext cx="7764480" cy="16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2010</a:t>
            </a: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年度　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QUEST</a:t>
            </a:r>
            <a:br>
              <a:rPr sz="4300"/>
            </a:b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広告事業案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428840" y="4285800"/>
            <a:ext cx="740736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2010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年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3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月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30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日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QUEST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　山下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修正履歴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graphicFrame>
        <p:nvGraphicFramePr>
          <p:cNvPr id="325" name=""/>
          <p:cNvGraphicFramePr/>
          <p:nvPr/>
        </p:nvGraphicFramePr>
        <p:xfrm>
          <a:off x="1071720" y="1447920"/>
          <a:ext cx="7862760" cy="1112760"/>
        </p:xfrm>
        <a:graphic>
          <a:graphicData uri="http://schemas.openxmlformats.org/drawingml/2006/table">
            <a:tbl>
              <a:tblPr/>
              <a:tblGrid>
                <a:gridCol w="1123920"/>
                <a:gridCol w="1122120"/>
                <a:gridCol w="4562640"/>
                <a:gridCol w="1054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日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修正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内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備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2010/3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山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・初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2010/3/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山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2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・修正（ページ追加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広告事業案につい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1285920" y="1447560"/>
            <a:ext cx="76485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目的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現状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UEST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正会員である企業様にとって</a:t>
            </a:r>
            <a:br>
              <a:rPr sz="2800"/>
            </a:b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「入会のメリット」が分かりづらい事が課題となっている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また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UEST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の運営を続けていくためには専任の従業員の存続も必要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この事業案は、上記２つの課題を解決するための１つの方法として提案するものである。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施行方法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2010</a:t>
            </a: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年度正会員・法人会員の会費をお支払いの企業様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→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企業様のアピールしたい項目を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QUEST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の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HP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へ無料で記載する。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年毎に見直し。修正自由。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iki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で行う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2010</a:t>
            </a: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年度にブログ（技術ブログ、営業ブログ等）を掲載する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→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ブログの横に広告枠を設けてそこに広告を張り収益を上げたい→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2010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年度は試験運用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将来にむけて、企業間の仕事のコミュニケーションツールを提供したい（</a:t>
            </a: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QUEST</a:t>
            </a:r>
            <a:r>
              <a:rPr b="0" lang="ja-JP" sz="3000" spc="-1" strike="noStrike">
                <a:solidFill>
                  <a:srgbClr val="000000"/>
                </a:solidFill>
                <a:latin typeface="Gill Sans MT"/>
              </a:rPr>
              <a:t>の当初の思惑である、仲介業）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課題と対策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課題と対策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現状のアクセス数を調べる必要がある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Google Analytic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 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を使って調べる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現状のアクセス数を増やす必要がある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O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対策を行いアクセス数を増やす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魅力ある内容を載せる（技術、動向）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九州にいないとわからないような情報を載せたい→どんな情報がある？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2/26-3/28</a:t>
            </a: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までの</a:t>
            </a:r>
            <a:br>
              <a:rPr sz="3900"/>
            </a:b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アクセス数の推移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434960" y="1447560"/>
            <a:ext cx="7499520" cy="480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4" name="Object 2"/>
          <p:cNvGraphicFramePr/>
          <p:nvPr/>
        </p:nvGraphicFramePr>
        <p:xfrm>
          <a:off x="2428920" y="1428840"/>
          <a:ext cx="5357880" cy="758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5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28920" y="1428840"/>
                    <a:ext cx="5357880" cy="758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300" spc="-1" strike="noStrike">
                <a:solidFill>
                  <a:srgbClr val="572314"/>
                </a:solidFill>
                <a:latin typeface="Gill Sans MT"/>
              </a:rPr>
              <a:t>現在の順位</a:t>
            </a: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(google)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010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30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日調べ　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「組込み」で検索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8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位（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ページ目）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「組込みソフトウェア」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1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位（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ページ目）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「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QUEST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」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3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位（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ページ目）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位以内（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ページ目）を目指す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00:29:00Z</dcterms:created>
  <dc:creator>yamashita</dc:creator>
  <dc:description/>
  <dc:language>en-US</dc:language>
  <cp:lastModifiedBy>yamashita</cp:lastModifiedBy>
  <dcterms:modified xsi:type="dcterms:W3CDTF">2010-03-30T07:37:41Z</dcterms:modified>
  <cp:revision>224</cp:revision>
  <dc:subject/>
  <dc:title>ETロボコン2009 九州地区反省と来年度について</dc:title>
</cp:coreProperties>
</file>