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F6466-707F-4286-B7F3-551B5CC5D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18A38-8B23-40A1-81EC-830A02590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575A7-B4D2-40A2-A499-99A6A6F0C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588BD-8342-4A9B-A75A-10A2C2A2F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904A0B-60BA-4807-8E6B-32B8A29A3A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4B60A-54B7-4CE3-A10D-E77E08DFF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B6281-CE6A-4914-B5C9-2E0C5EE86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18EA9-6849-4592-A9C2-A6B1B9BB6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E688E-D130-447D-B25A-F119A189E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2DC5C-4C70-48D4-8E84-E68B0878C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3442F-E929-4AA8-AA84-5EDE48652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3EE29-387D-4798-8809-7E201EF9B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71442-F4E0-4E29-80F5-10F06B28E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39EAA-3E2B-48DA-B9AF-49857E74E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4B66A-0656-47BF-B247-D625171A4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29180F-80B0-4384-9D03-71A9B80AA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45ADC-06B4-4B45-A5A3-8371EC976B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C3D1E2-DE0D-4DB1-ACA8-29D13C5DE1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F5832E-88DA-4440-A177-2B242DA982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4CFA3F-23E4-4A4D-850D-36961BC69F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2D9E38-CBE5-4999-A687-2329C79EBF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93B107-7920-4AA2-BFF1-3E913FA8D4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E89A3-0CD4-4A0E-A26F-9730DC31B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FE906A-63CC-4835-9CBC-4C21308AA9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F9F429-6E46-4739-A137-FEF273E3D9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5FA0EC-1D05-4286-9277-6AE0E5D7DA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4D976E-FEE4-46A4-967C-DD76A51F03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117793-5B06-49B4-8E5D-45F33B8C16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9FF9F6-CDE0-4E80-ABEC-D53B3927D1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46319A-6F0D-4E58-A32C-458623FBF7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001741-9AA6-42EA-81DA-981F0E0751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E80C70-FD9D-4CA6-9DE9-2DB774C08F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C083AF-96C9-4D23-9587-9C6FB541C3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7C35F-DBAA-42AE-AC19-7EF3120B1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DAFA7B-E23C-4E3A-A655-090C721B3E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410C66-6595-4354-B57E-B08A285764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4DCF32-F30C-4BD6-9EE0-CB65BCC12C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52711A-4580-465B-92D4-3BFD090FCF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7DC534-C2A1-4A9B-8C39-FFDC72D572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37CC29-80E6-478F-9775-CD1731DDBD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E06D63-FC6C-4473-B55C-21F31653D9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BB3571-B083-42FC-82F9-3D404A1BC9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219FEF-9B38-4D12-BC77-8BA8984C97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129DBB-00FB-4756-B211-A2E9E8F223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B9AFD-0974-4E1A-99C7-647A5D9D7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D4E750-740C-451B-B405-E8BC080AEB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F8CCA2-7B98-45D7-A380-33D0A422F0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51E367-DE07-44E6-9E60-B9167DE9C1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80CA26-D21C-49D5-AAA6-A74A5DC46D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87515C-757E-4C13-BD59-0284548B32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665A6F-FCCE-4566-88A4-18D8A8D325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DAA1FC-CF6B-4F52-84AD-EB680C5449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1E3F41-316F-4A4C-835C-B881C5F467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FFF161-39CF-404F-A71F-11FF02E202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6734C2-EB37-4E90-8B5E-B54ECF557A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8DC3D-30C3-41DE-AF47-0B74F528F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B5D411-C5E5-4B47-AF15-510E7BE9DA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BD30BC-331B-4F74-A654-3148DDF61D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DB8407-7E0E-4C88-A0F9-D5A705BEED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8A0199-D4E2-41D5-80E5-3BFEC0E188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A10DDE-3746-4480-8332-B90DAFEEEA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2AF53C-A091-40B9-A92E-3D81917884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0FA9D9-5E95-4B30-858A-5A55B7B0CB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F83CE4-D14B-4836-A9B8-78FCB9A3D9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4D71D3-F834-4243-B0D7-B46BD6817E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6786C8-18F3-474E-A8F5-2F66A4EF00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E4DF9-3666-410A-881C-8E7E3B62C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B6A6FB-8674-499E-B0A3-9B60EDFFFC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4AF9A4-6E7D-494C-B04E-0759F218C9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D18BED-99DA-4373-AC0C-5BB3A8599A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3A20D6-F4CA-4CCC-AAED-42DCC1735D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A7786C-3F5D-4E13-9BDD-ECCFAF30CE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1AB753-4ECD-440D-817B-3363B555EF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65F7A5-4FF9-45ED-9703-79251C9A52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A92478-A323-4D92-8D38-2E7B5AF8C3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BC6E1D-FDA6-418D-9FEF-B18258B2FB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1DEC9A-BF12-4FEC-93A4-E797225C9D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19FB4-4805-4E08-90FC-A5D96D29D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A03A02-E7A0-4C92-8EFB-F885177A19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2EFABB-EE17-4846-B45F-66D3A245C0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2BD68C-F881-41EA-B896-445B02CEE4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F1668C-9225-4F02-B4F7-36D34DC14E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00C365-58B9-4723-AE4E-2C990B5C74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9D739-9D78-4900-9EEB-972D5B870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ドーナツ 10"/>
          <p:cNvGrpSpPr/>
          <p:nvPr/>
        </p:nvGrpSpPr>
        <p:grpSpPr>
          <a:xfrm>
            <a:off x="165240" y="1036800"/>
            <a:ext cx="1170000" cy="1170000"/>
            <a:chOff x="165240" y="1036800"/>
            <a:chExt cx="1170000" cy="1170000"/>
          </a:xfrm>
        </p:grpSpPr>
        <p:pic>
          <p:nvPicPr>
            <p:cNvPr id="3" name="ドーナツ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3B3E4-B2B7-444A-A795-4EE16CCA00DF}"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
        <p:nvSpPr>
          <p:cNvPr id="11"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 name="Picture 2" descr="C:\DATA\マイピクチャ\logo2.jpg"/>
          <p:cNvPicPr/>
          <p:nvPr/>
        </p:nvPicPr>
        <p:blipFill>
          <a:blip r:embed="rId4"/>
          <a:stretch/>
        </p:blipFill>
        <p:spPr>
          <a:xfrm>
            <a:off x="7738920" y="0"/>
            <a:ext cx="1405080" cy="428760"/>
          </a:xfrm>
          <a:prstGeom prst="rect">
            <a:avLst/>
          </a:prstGeom>
          <a:ln w="0">
            <a:noFill/>
          </a:ln>
        </p:spPr>
      </p:pic>
      <p:sp>
        <p:nvSpPr>
          <p:cNvPr id="13"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ドーナツ 10"/>
          <p:cNvGrpSpPr/>
          <p:nvPr/>
        </p:nvGrpSpPr>
        <p:grpSpPr>
          <a:xfrm>
            <a:off x="165240" y="1036800"/>
            <a:ext cx="1170000" cy="1170000"/>
            <a:chOff x="165240" y="1036800"/>
            <a:chExt cx="1170000" cy="1170000"/>
          </a:xfrm>
        </p:grpSpPr>
        <p:pic>
          <p:nvPicPr>
            <p:cNvPr id="53" name="ドーナツ 10" descr=""/>
            <p:cNvPicPr/>
            <p:nvPr/>
          </p:nvPicPr>
          <p:blipFill>
            <a:blip r:embed="rId3"/>
            <a:stretch/>
          </p:blipFill>
          <p:spPr>
            <a:xfrm>
              <a:off x="165240" y="1036800"/>
              <a:ext cx="1170000" cy="1170000"/>
            </a:xfrm>
            <a:prstGeom prst="rect">
              <a:avLst/>
            </a:prstGeom>
            <a:ln w="0">
              <a:noFill/>
            </a:ln>
          </p:spPr>
        </p:pic>
        <p:sp>
          <p:nvSpPr>
            <p:cNvPr id="5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C:\DATA\マイピクチャ\logo2.jpg"/>
          <p:cNvPicPr/>
          <p:nvPr/>
        </p:nvPicPr>
        <p:blipFill>
          <a:blip r:embed="rId4"/>
          <a:stretch/>
        </p:blipFill>
        <p:spPr>
          <a:xfrm>
            <a:off x="7738920" y="0"/>
            <a:ext cx="1405080" cy="428760"/>
          </a:xfrm>
          <a:prstGeom prst="rect">
            <a:avLst/>
          </a:prstGeom>
          <a:ln w="0">
            <a:noFill/>
          </a:ln>
        </p:spPr>
      </p:pic>
      <p:sp>
        <p:nvSpPr>
          <p:cNvPr id="58"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grpSp>
        <p:nvGrpSpPr>
          <p:cNvPr id="59" name="円/楕円 15"/>
          <p:cNvGrpSpPr/>
          <p:nvPr/>
        </p:nvGrpSpPr>
        <p:grpSpPr>
          <a:xfrm>
            <a:off x="914400" y="1407960"/>
            <a:ext cx="231840" cy="225720"/>
            <a:chOff x="914400" y="1407960"/>
            <a:chExt cx="231840" cy="225720"/>
          </a:xfrm>
        </p:grpSpPr>
        <p:pic>
          <p:nvPicPr>
            <p:cNvPr id="60" name="円/楕円 15" descr=""/>
            <p:cNvPicPr/>
            <p:nvPr/>
          </p:nvPicPr>
          <p:blipFill>
            <a:blip r:embed="rId5"/>
            <a:stretch/>
          </p:blipFill>
          <p:spPr>
            <a:xfrm>
              <a:off x="914400" y="1407960"/>
              <a:ext cx="231840" cy="225720"/>
            </a:xfrm>
            <a:prstGeom prst="rect">
              <a:avLst/>
            </a:prstGeom>
            <a:ln w="0">
              <a:noFill/>
            </a:ln>
          </p:spPr>
        </p:pic>
        <p:sp>
          <p:nvSpPr>
            <p:cNvPr id="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円/楕円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5"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7EDF3-372F-4889-8E24-3736194E5B4A}"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正方形/長方形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正方形/長方形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円/楕円 17"/>
          <p:cNvGrpSpPr/>
          <p:nvPr/>
        </p:nvGrpSpPr>
        <p:grpSpPr>
          <a:xfrm>
            <a:off x="2163600" y="2809800"/>
            <a:ext cx="231840" cy="225360"/>
            <a:chOff x="2163600" y="2809800"/>
            <a:chExt cx="231840" cy="225360"/>
          </a:xfrm>
        </p:grpSpPr>
        <p:pic>
          <p:nvPicPr>
            <p:cNvPr id="107" name="円/楕円 17" descr=""/>
            <p:cNvPicPr/>
            <p:nvPr/>
          </p:nvPicPr>
          <p:blipFill>
            <a:blip r:embed="rId3"/>
            <a:stretch/>
          </p:blipFill>
          <p:spPr>
            <a:xfrm>
              <a:off x="2163600" y="2809800"/>
              <a:ext cx="231840" cy="225360"/>
            </a:xfrm>
            <a:prstGeom prst="rect">
              <a:avLst/>
            </a:prstGeom>
            <a:ln w="0">
              <a:noFill/>
            </a:ln>
          </p:spPr>
        </p:pic>
        <p:sp>
          <p:nvSpPr>
            <p:cNvPr id="10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円/楕円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1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C4B2-768E-465A-B7DE-E6006403B677}"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3"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4553A-EDF9-4DF0-9DBB-F2875BFDC409}"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正方形/長方形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正方形/長方形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6"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97"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1E93-7D5B-4577-A6D3-21E938234C0C}"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7"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38"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89F4-CD75-4E0D-9B75-4F77455F63E4}"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6" name="正方形/長方形 15"/>
          <p:cNvGrpSpPr/>
          <p:nvPr/>
        </p:nvGrpSpPr>
        <p:grpSpPr>
          <a:xfrm>
            <a:off x="646200" y="969840"/>
            <a:ext cx="4803840" cy="4802400"/>
            <a:chOff x="646200" y="969840"/>
            <a:chExt cx="4803840" cy="4802400"/>
          </a:xfrm>
        </p:grpSpPr>
        <p:pic>
          <p:nvPicPr>
            <p:cNvPr id="277" name="正方形/長方形 15" descr=""/>
            <p:cNvPicPr/>
            <p:nvPr/>
          </p:nvPicPr>
          <p:blipFill>
            <a:blip r:embed="rId3"/>
            <a:stretch/>
          </p:blipFill>
          <p:spPr>
            <a:xfrm>
              <a:off x="646200" y="969840"/>
              <a:ext cx="4803840" cy="4802400"/>
            </a:xfrm>
            <a:prstGeom prst="rect">
              <a:avLst/>
            </a:prstGeom>
            <a:ln w="0">
              <a:noFill/>
            </a:ln>
          </p:spPr>
        </p:pic>
        <p:sp>
          <p:nvSpPr>
            <p:cNvPr id="27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フローチャート: 処理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フローチャート: 処理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8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68F4-C78C-4CDF-8780-9A85D4A734D8}"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71720" y="1714320"/>
            <a:ext cx="7764480" cy="16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2010</a:t>
            </a:r>
            <a:r>
              <a:rPr b="0" lang="ja-JP" sz="4300" spc="-1" strike="noStrike">
                <a:solidFill>
                  <a:srgbClr val="572314"/>
                </a:solidFill>
                <a:latin typeface="Gill Sans MT"/>
              </a:rPr>
              <a:t>年度　</a:t>
            </a:r>
            <a:br>
              <a:rPr sz="4300"/>
            </a:br>
            <a:r>
              <a:rPr b="0" lang="en-US" sz="4300" spc="-1" strike="noStrike">
                <a:solidFill>
                  <a:srgbClr val="572314"/>
                </a:solidFill>
                <a:latin typeface="Gill Sans MT"/>
              </a:rPr>
              <a:t>GreenETChallenge</a:t>
            </a:r>
            <a:r>
              <a:rPr b="0" lang="ja-JP" sz="4300" spc="-1" strike="noStrike">
                <a:solidFill>
                  <a:srgbClr val="572314"/>
                </a:solidFill>
                <a:latin typeface="Gill Sans MT"/>
              </a:rPr>
              <a:t>案</a:t>
            </a:r>
            <a:endParaRPr b="0" lang="en-US" sz="4300" spc="-1" strike="noStrike">
              <a:solidFill>
                <a:srgbClr val="572314"/>
              </a:solidFill>
              <a:latin typeface="Gill Sans MT"/>
            </a:endParaRPr>
          </a:p>
        </p:txBody>
      </p:sp>
      <p:sp>
        <p:nvSpPr>
          <p:cNvPr id="323" name="PlaceHolder 2"/>
          <p:cNvSpPr>
            <a:spLocks noGrp="1"/>
          </p:cNvSpPr>
          <p:nvPr>
            <p:ph type="subTitle"/>
          </p:nvPr>
        </p:nvSpPr>
        <p:spPr>
          <a:xfrm>
            <a:off x="1428840" y="4285800"/>
            <a:ext cx="7407360" cy="175284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2010</a:t>
            </a:r>
            <a:r>
              <a:rPr b="0" lang="ja-JP" sz="2600" spc="-1" strike="noStrike">
                <a:solidFill>
                  <a:srgbClr val="320e04"/>
                </a:solidFill>
                <a:latin typeface="Gill Sans MT"/>
              </a:rPr>
              <a:t>年</a:t>
            </a:r>
            <a:r>
              <a:rPr b="0" lang="en-US" sz="2600" spc="-1" strike="noStrike">
                <a:solidFill>
                  <a:srgbClr val="320e04"/>
                </a:solidFill>
                <a:latin typeface="Gill Sans MT"/>
              </a:rPr>
              <a:t>3</a:t>
            </a:r>
            <a:r>
              <a:rPr b="0" lang="ja-JP" sz="2600" spc="-1" strike="noStrike">
                <a:solidFill>
                  <a:srgbClr val="320e04"/>
                </a:solidFill>
                <a:latin typeface="Gill Sans MT"/>
              </a:rPr>
              <a:t>月</a:t>
            </a:r>
            <a:r>
              <a:rPr b="0" lang="en-US" sz="2600" spc="-1" strike="noStrike">
                <a:solidFill>
                  <a:srgbClr val="320e04"/>
                </a:solidFill>
                <a:latin typeface="Gill Sans MT"/>
              </a:rPr>
              <a:t>30</a:t>
            </a:r>
            <a:r>
              <a:rPr b="0" lang="ja-JP" sz="2600" spc="-1" strike="noStrike">
                <a:solidFill>
                  <a:srgbClr val="320e04"/>
                </a:solidFill>
                <a:latin typeface="Gill Sans MT"/>
              </a:rPr>
              <a:t>日</a:t>
            </a:r>
            <a:endParaRPr b="0" lang="en-US" sz="26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QUEST</a:t>
            </a:r>
            <a:r>
              <a:rPr b="0" lang="ja-JP" sz="2600" spc="-1" strike="noStrike">
                <a:solidFill>
                  <a:srgbClr val="320e04"/>
                </a:solidFill>
                <a:latin typeface="Gill Sans MT"/>
              </a:rPr>
              <a:t>　山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修正履歴</a:t>
            </a:r>
            <a:endParaRPr b="0" lang="en-US" sz="4300" spc="-1" strike="noStrike">
              <a:solidFill>
                <a:srgbClr val="572314"/>
              </a:solidFill>
              <a:latin typeface="Gill Sans MT"/>
            </a:endParaRPr>
          </a:p>
        </p:txBody>
      </p:sp>
      <p:graphicFrame>
        <p:nvGraphicFramePr>
          <p:cNvPr id="325" name=""/>
          <p:cNvGraphicFramePr/>
          <p:nvPr/>
        </p:nvGraphicFramePr>
        <p:xfrm>
          <a:off x="1071720" y="1447920"/>
          <a:ext cx="7862760" cy="1112760"/>
        </p:xfrm>
        <a:graphic>
          <a:graphicData uri="http://schemas.openxmlformats.org/drawingml/2006/table">
            <a:tbl>
              <a:tblPr/>
              <a:tblGrid>
                <a:gridCol w="1123920"/>
                <a:gridCol w="1122120"/>
                <a:gridCol w="4562640"/>
                <a:gridCol w="105408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日付</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修正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備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HGｺﾞｼｯｸE"/>
                        </a:rPr>
                        <a:t>2010/3/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山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初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7" name=""/>
          <p:cNvSpPr txBox="1"/>
          <p:nvPr/>
        </p:nvSpPr>
        <p:spPr>
          <a:xfrm>
            <a:off x="856800" y="1447920"/>
            <a:ext cx="8286840" cy="512424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従来（２月仕様）</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ボタン押下でスタート、もう一回押下でストッ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スタートは</a:t>
            </a:r>
            <a:r>
              <a:rPr b="0" lang="en-US" sz="2200" spc="-1" strike="noStrike">
                <a:solidFill>
                  <a:srgbClr val="000000"/>
                </a:solidFill>
                <a:latin typeface="Gill Sans MT"/>
              </a:rPr>
              <a:t>OK</a:t>
            </a:r>
            <a:r>
              <a:rPr b="0" lang="ja-JP" sz="2200" spc="-1" strike="noStrike">
                <a:solidFill>
                  <a:srgbClr val="000000"/>
                </a:solidFill>
                <a:latin typeface="Gill Sans MT"/>
              </a:rPr>
              <a:t>だが、ストップを押す時にモータの振動で続けて２回押すことがありその結果、消費電力表示が消えることが多々あった。</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7segLED</a:t>
            </a:r>
            <a:r>
              <a:rPr b="0" lang="ja-JP" sz="2600" spc="-1" strike="noStrike">
                <a:solidFill>
                  <a:srgbClr val="000000"/>
                </a:solidFill>
                <a:latin typeface="Gill Sans MT"/>
              </a:rPr>
              <a:t>で消費電力を表示</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LED</a:t>
            </a:r>
            <a:r>
              <a:rPr b="0" lang="ja-JP" sz="2200" spc="-1" strike="noStrike">
                <a:solidFill>
                  <a:srgbClr val="000000"/>
                </a:solidFill>
                <a:latin typeface="Gill Sans MT"/>
              </a:rPr>
              <a:t>は結構電力を食う。表示が薄くて見えない。一度消えると記録が見れない。大会仕様としては致命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回生ブレーキ無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を電子制御で止めても慣性である程度走ってしまうので、機敏な制御がやりにく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PU</a:t>
            </a:r>
            <a:r>
              <a:rPr b="0" lang="ja-JP" sz="2600" spc="-1" strike="noStrike">
                <a:solidFill>
                  <a:srgbClr val="000000"/>
                </a:solidFill>
                <a:latin typeface="Gill Sans MT"/>
              </a:rPr>
              <a:t>電源をモータ電源からとっていた</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電源の電圧がだんだんと低下していくと、計測部が暴走することがあった</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Gill Sans MT"/>
              </a:rPr>
              <a:t>今回（３月仕様）</a:t>
            </a:r>
            <a:endParaRPr b="0" lang="en-US" sz="25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パソコンから無線（</a:t>
            </a:r>
            <a:r>
              <a:rPr b="0" lang="en-US" sz="2200" spc="-1" strike="noStrike">
                <a:solidFill>
                  <a:srgbClr val="000000"/>
                </a:solidFill>
                <a:latin typeface="Gill Sans MT"/>
              </a:rPr>
              <a:t>Xbee</a:t>
            </a:r>
            <a:r>
              <a:rPr b="0" lang="ja-JP" sz="2200" spc="-1" strike="noStrike">
                <a:solidFill>
                  <a:srgbClr val="000000"/>
                </a:solidFill>
                <a:latin typeface="Gill Sans MT"/>
              </a:rPr>
              <a:t>）でスタート、ストップを操作</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indows</a:t>
            </a:r>
            <a:r>
              <a:rPr b="0" lang="ja-JP" sz="1900" spc="-1" strike="noStrike">
                <a:solidFill>
                  <a:srgbClr val="000000"/>
                </a:solidFill>
                <a:latin typeface="Gill Sans MT"/>
              </a:rPr>
              <a:t>のプログラムで操作できるようになり快適</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消費電力は無線でシリアル転送</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制御部のデバッグ情報も転送できるようになりデバッグが楽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回生ブレーキを追加</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ET(</a:t>
            </a:r>
            <a:r>
              <a:rPr b="0" lang="ja-JP" sz="1900" spc="-1" strike="noStrike">
                <a:solidFill>
                  <a:srgbClr val="000000"/>
                </a:solidFill>
                <a:latin typeface="Gill Sans MT"/>
              </a:rPr>
              <a:t>電界効果トランジスタ</a:t>
            </a:r>
            <a:r>
              <a:rPr b="0" lang="en-US" sz="1900" spc="-1" strike="noStrike">
                <a:solidFill>
                  <a:srgbClr val="000000"/>
                </a:solidFill>
                <a:latin typeface="Gill Sans MT"/>
              </a:rPr>
              <a:t>)</a:t>
            </a:r>
            <a:r>
              <a:rPr b="0" lang="ja-JP" sz="1900" spc="-1" strike="noStrike">
                <a:solidFill>
                  <a:srgbClr val="000000"/>
                </a:solidFill>
                <a:latin typeface="Gill Sans MT"/>
              </a:rPr>
              <a:t>を２個追加することにより惰性時よりもブレーキがかかるよう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PU</a:t>
            </a:r>
            <a:r>
              <a:rPr b="0" lang="ja-JP" sz="2200" spc="-1" strike="noStrike">
                <a:solidFill>
                  <a:srgbClr val="000000"/>
                </a:solidFill>
                <a:latin typeface="Gill Sans MT"/>
              </a:rPr>
              <a:t>電源を別に用意</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モータ電源が減っても、計測部はきちんと動作</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仕様変更により、電池が増加したので筺体の見直しが必要になった</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現在は、動作確認優先のため不格好になっているが将来的には小さくしたい。</a:t>
            </a:r>
            <a:endParaRPr b="0" lang="en-US" sz="19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４月以降の計画案</a:t>
            </a:r>
            <a:endParaRPr b="0" lang="en-US" sz="4300" spc="-1" strike="noStrike">
              <a:solidFill>
                <a:srgbClr val="572314"/>
              </a:solidFill>
              <a:latin typeface="Gill Sans MT"/>
            </a:endParaRPr>
          </a:p>
        </p:txBody>
      </p:sp>
      <p:sp>
        <p:nvSpPr>
          <p:cNvPr id="331" name=""/>
          <p:cNvSpPr txBox="1"/>
          <p:nvPr/>
        </p:nvSpPr>
        <p:spPr>
          <a:xfrm>
            <a:off x="928800" y="1447560"/>
            <a:ext cx="800568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下記１）～３）を実施する</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１）運営会議（有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主にルール作りや運営のための会議</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２周間に一度くらいの開催</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提案は</a:t>
            </a:r>
            <a:r>
              <a:rPr b="0" lang="en-US" sz="2200" spc="-1" strike="noStrike">
                <a:solidFill>
                  <a:srgbClr val="000000"/>
                </a:solidFill>
                <a:latin typeface="Gill Sans MT"/>
              </a:rPr>
              <a:t>QUEST</a:t>
            </a:r>
            <a:r>
              <a:rPr b="0" lang="ja-JP" sz="2200" spc="-1" strike="noStrike">
                <a:solidFill>
                  <a:srgbClr val="000000"/>
                </a:solidFill>
                <a:latin typeface="Gill Sans MT"/>
              </a:rPr>
              <a:t>で作成しそれを審議（有志の負担減らす）</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技術説明会＋試走会（有志＋選手）</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QUEST</a:t>
            </a:r>
            <a:r>
              <a:rPr b="0" lang="ja-JP" sz="2200" spc="-1" strike="noStrike">
                <a:solidFill>
                  <a:srgbClr val="000000"/>
                </a:solidFill>
                <a:latin typeface="Gill Sans MT"/>
              </a:rPr>
              <a:t>で作成してきた基本モデルの説明会</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ハードから、ソフトまで、月１回の開催（５月から８月まで開催。計４回）</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試走会のコースを設置して、説明会の後自由走行（５月は無理ぽいので６月以降）</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３）９月末に</a:t>
            </a:r>
            <a:r>
              <a:rPr b="0" lang="en-US" sz="2600" spc="-1" strike="noStrike">
                <a:solidFill>
                  <a:srgbClr val="000000"/>
                </a:solidFill>
                <a:latin typeface="Gill Sans MT"/>
              </a:rPr>
              <a:t>GreenETChallenge</a:t>
            </a:r>
            <a:r>
              <a:rPr b="0" lang="ja-JP" sz="2600" spc="-1" strike="noStrike">
                <a:solidFill>
                  <a:srgbClr val="000000"/>
                </a:solidFill>
                <a:latin typeface="Gill Sans MT"/>
              </a:rPr>
              <a:t>実施</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小さいながらも大会形式で行いたい</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00:29:00Z</dcterms:created>
  <dc:creator>yamashita</dc:creator>
  <dc:description/>
  <dc:language>en-US</dc:language>
  <cp:lastModifiedBy>yamashita</cp:lastModifiedBy>
  <dcterms:modified xsi:type="dcterms:W3CDTF">2010-03-29T05:54:59Z</dcterms:modified>
  <cp:revision>226</cp:revision>
  <dc:subject/>
  <dc:title>ETロボコン2009 九州地区反省と来年度について</dc:title>
</cp:coreProperties>
</file>