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19E7-C0E3-4BDA-97DD-57322604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1780-9885-4F83-B582-4C9562F7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3CE9-66D7-42B3-85C3-B23EE049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CC20-7619-42C9-B816-D29B1C4B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765E-C876-4208-876C-44324985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6C57-055F-482F-9AD5-551B2333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5FF3-0D60-4274-964F-1D93355D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96BA-AABF-4C2A-9741-3D866720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BAC1-E80B-4612-A0A1-CDC578D8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E174-84AD-40FE-B06E-893F8B57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1367-2F75-434A-9AB6-7218FDFA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FDD-4A0A-40A5-B5E4-EBE68D4B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EFD0-22D1-4863-B567-E168454D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8BD4-2912-4BCB-9B17-076BB56A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A844-C9EA-4F9A-B536-E188069A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FAEA-74D8-4EB9-BA39-BAFED5B1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1A03-9799-4C33-B678-9EA2143B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15618-0F3F-4484-BD15-CDA87247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E8760-E422-4146-A4AF-75C62AFE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07EFF-9FC4-4C6C-851E-2D9E3FD2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1EC0C-5835-4ED5-A990-AAACDFFE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516B1-70E4-498D-A3CD-0124E6DC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6FB9-8C80-4906-8F26-48F66AD1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B8F04-4469-4BA7-BB08-8E29EC22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A4801-D492-4BD6-BC0D-DAC8D80A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9AB04-D643-42B6-A795-885F33FF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9CD16-227A-4701-9404-D383F83E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D172B-3D31-4791-9439-DE5CA4D4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1039A-555D-4D01-BDA1-D4E069A0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5145D-0FB5-4114-92BD-107671D7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B279F-91EB-46EA-9A61-A6C13F6B2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B70EA-03ED-4FD3-87ED-873D22ED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36E22-0A4C-40A3-8086-CAE3939C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2496-C2A3-461A-8447-5D699C91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7BE20-9A27-4DCE-BBD5-1562BDD4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3C5DF-4704-49F7-B3F0-5E355C0F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E4AFC-0F0C-4ACB-B5EB-AE75C651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B179A-B628-4EED-8DF9-BB0A01D8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0E6BA-D385-4696-AFDA-74531DA1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99EAF-A42A-40A7-9640-00261877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1F7B2-32C3-4976-8CC1-1121F844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B0000-A289-4695-A1E4-2ED33D11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3D268-DCAB-4BD7-BE82-3491AF18D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C1899-F8ED-422C-A33A-87FEC4C4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7280-6CE2-4AA3-961F-ECBBD7BB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F213C-C546-43C8-8C3D-DB6EC4F6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0F251-3E9C-4E12-A7EE-FEC60E69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E4DC3-F3F2-46D3-A4A0-8CDD2F14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44D7B-AD17-4CB3-B096-1E876A92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8D381-C8DD-4F9B-9CA2-4CC8AC6E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CFAC1-37D2-4CD2-90F7-3D755BC7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9A666-13DA-44EA-A7C7-B946381A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E5EEB-0E67-42E6-802E-6F352217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0C7DE-FB7B-45A3-8BD7-B5C52531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17648-EEEE-4A45-B7E4-AD8DB1A6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259C-CAFA-4333-AB2F-5F580A43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85A9F-3126-45F3-BE92-E264B16E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39070-A722-4996-9AFF-D5F7A19E7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19FE0-87D5-4B55-A108-E0B3AE79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4A65F-9BEA-473A-AA15-17E703B5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621E5-1A33-4659-9A48-8F6B9D52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B2376-ACFD-4FC2-BE46-2CC97458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BF689-00FC-4720-851D-70F34B6F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97591-27CD-4A57-AAB7-C524A048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6CBD0-43C4-48B6-9B57-F6C808A1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7EABA-CFE4-40CC-A9DA-DDEE0FCB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25B6-2C3C-4F64-8B49-71CC83D3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4EE3E-3311-4CC6-BCD6-BEF467F3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71FB4-15EF-44DF-AD3D-AF86A059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2345C-18E4-419C-9D9F-AADA4F02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C6AE6-33DD-4D57-9FB8-F699536D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E969B-0DFC-4164-93E8-8F8DC5FE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38A5F-755D-4F22-9ADD-D4CD4A1E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929D2-6725-4003-A633-65247B87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70D83-740A-4D59-9922-82C93139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BD0B0-ABFC-41C5-BC34-4D7D8424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37D9C-25F3-4277-B4E8-909BD8B7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ADB2-DD25-4809-B8CE-40BCB417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3CCD8-95FC-4B8B-AE92-4474ED3E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1AD4D-CB65-44D8-8DD1-69D173AD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C7879-2E4A-48EC-9A94-CA4155B9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8D3DD-1778-40B6-B0B2-B176DEAE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7519E-A731-444B-B7F7-98F28013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03D3-79DF-4D69-9540-30B7B662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1613-F5DE-4D1B-86F3-47BF0A0AFEED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13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円/楕円 15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60" name="円/楕円 15" descr=""/>
            <p:cNvPicPr/>
            <p:nvPr/>
          </p:nvPicPr>
          <p:blipFill>
            <a:blip r:embed="rId5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円/楕円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71A3-2AA2-4DDB-A915-8DEA1F4DDD54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正方形/長方形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正方形/長方形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円/楕円 1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7" name="円/楕円 1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円/楕円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05F9-B133-4EDA-8690-937EB5EBE8C0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90E2-EAD0-4BAD-AA6C-C887A81F9B5C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正方形/長方形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正方形/長方形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7BA8-E37A-49AC-9D35-6A30578D355F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ED7C-5D40-496B-AF7B-B8FDEFA54E5B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正方形/長方形 15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7" name="正方形/長方形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フローチャート: 処理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フローチャート: 処理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745A-6D35-4A43-9E4B-972E97D0470D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720" y="1714320"/>
            <a:ext cx="776448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2010</a:t>
            </a: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年度　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</a:t>
            </a:r>
            <a:br>
              <a:rPr sz="4300"/>
            </a:b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広告事業案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28840" y="428580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　山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修正履歴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071720" y="1447920"/>
          <a:ext cx="7862760" cy="1112760"/>
        </p:xfrm>
        <a:graphic>
          <a:graphicData uri="http://schemas.openxmlformats.org/drawingml/2006/table">
            <a:tbl>
              <a:tblPr/>
              <a:tblGrid>
                <a:gridCol w="1123920"/>
                <a:gridCol w="1122120"/>
                <a:gridCol w="4562640"/>
                <a:gridCol w="1054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日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修正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備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2010/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山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・初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2010/3/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山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・修正（ページ追加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広告事業案につい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85920" y="1447560"/>
            <a:ext cx="7648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目的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正会員である企業様にとって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入会のメリット」が分かりづらい事が課題となっている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また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の運営を続けていくためには専任の従業員の存続も必要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この事業案は、上記２つの課題を解決するための１つの方法として提案するものである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施行方法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年度正会員・法人会員の会費をお支払いの企業様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→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企業様のアピールしたい項目を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P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へ無料で記載する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年毎に見直し。修正自由。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ki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で行う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年度にブログ（技術ブログ、営業ブログ等）を掲載する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→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ブログの横に広告枠を設けてそこに広告を張り収益を上げたい→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年度は試験運用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将来にむけて、企業間の仕事のコミュニケーションツールを提供したい（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の当初の思惑である、仲介業）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課題と対策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課題と対策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のアクセス数を調べる必要があ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oogle Analy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を使って調べ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のアクセス数を増やす必要があ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O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対策を行いアクセス数を増や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魅力ある内容を載せる（技術、動向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九州にいないとわからないような情報を載せたい→どんな情報がある？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2/26-3/28</a:t>
            </a: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までの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アクセス数の推移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Object 2"/>
          <p:cNvGraphicFramePr/>
          <p:nvPr/>
        </p:nvGraphicFramePr>
        <p:xfrm>
          <a:off x="2428920" y="1428840"/>
          <a:ext cx="5357880" cy="758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1428840"/>
                    <a:ext cx="5357880" cy="758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現在の順位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(google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0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日調べ　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組込み」で検索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8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組込みソフトウェア」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3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位以内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ページ目）を目指す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0:29:00Z</dcterms:created>
  <dc:creator>yamashita</dc:creator>
  <dc:description/>
  <dc:language>en-US</dc:language>
  <cp:lastModifiedBy>yamashita</cp:lastModifiedBy>
  <dcterms:modified xsi:type="dcterms:W3CDTF">2010-03-30T07:37:41Z</dcterms:modified>
  <cp:revision>224</cp:revision>
  <dc:subject/>
  <dc:title>ETロボコン2009 九州地区反省と来年度について</dc:title>
</cp:coreProperties>
</file>