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E3F1-7E2B-4117-9BA4-5331386A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ADC8-CEF9-4ABC-8329-48FD676E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7C55-42D8-446F-9C55-241DBF87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C0C1-ECAF-447F-B629-ABC8081B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066A-9068-472F-A7FE-09669A14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C576-6215-4C35-8351-825B8AA3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3AD2-4CED-4573-B832-352C3977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1629-572A-4FA0-BA62-BD8DA0DD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E2AC-2765-4ADB-A8D5-A22AEA62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D0FD-36AF-47CB-AD0C-C15EFDCD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0DB0-2E24-44A0-BD66-65392395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E83E-1423-4476-9BCE-EACBC90D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FB6F-87C8-475C-841E-8570CF73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5987-0041-45BF-9365-B4D2A692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6015-6CE9-4200-B683-3FA28859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29F8-DB9E-4CC5-89BB-3DF0AE14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81BE-B473-4AE5-BA4E-D421AF85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A5E60-9B4C-4FCD-BC64-731C9113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0EBEE-6009-49DB-91DE-8FDF8644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94854-C674-41F0-A623-DE31087D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5C2C7-2B6D-4629-9B45-F4CDE352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CCFD3-97D8-4B49-BBD9-89656C6C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50AE-A826-4132-9C1E-06A58DDC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67051-E946-4FA9-A127-BD5E0F7E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51409-05D6-402E-BCA7-2792CCB2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2D914-401B-4B40-B7CC-BBDBB13E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9B3F4-EB00-4184-BC60-8B246ECF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FFDFF-F67B-45B1-A392-0DCC7E90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0E874-A6FE-453D-A943-6C9F47C0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ECA90-73F9-40DF-81C5-87D2A800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2A0E0-7F8A-40D7-8F7C-FF3A9E72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2C3C3-7171-4A94-AF2F-408D7711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B3F80-CDAC-436B-B0B4-E1115F27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B68C-25C3-4198-8499-1950D4DA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1EE5A-8E5A-42A3-81F2-ACBA4081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57F93-2AFB-49E9-8BA0-D9BCCDC7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DE056-DCA5-4C07-AA3E-8EB88B47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F5A18-E316-411B-8337-7325A2C3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C535E-3514-47D1-83BE-BC41117A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A5E5E-06BC-4AC9-8EA0-D9F1B793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2B50D-68D6-4A9E-A5FF-29EEEA32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2C435-8A63-45A5-97DB-3AD4F7F3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BD1DA-5597-4AC3-A7E1-084196E4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4D447-349F-459B-B89E-5A2A62A3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0A30-EE19-455E-84D2-94D5DCE9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0FC3F-84CE-41BE-9DF6-F0CFBEDC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9E168-A31C-4BFC-B53C-5A7A566C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8C443-07DC-4159-9CCB-641B8492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230BE-6769-4369-B18E-3C3DBF8A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F43FD-7E6F-4850-B813-65747574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79F14-55C6-4A5E-8EA0-1EA92E46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9575C-12CF-4FD8-94A6-6ED7452A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35624-7E78-4E91-9142-BE533751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B2E35-658A-4424-91B9-55550F7C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0FB83-5E5B-469E-900D-4F5BB499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11D3-3413-4AA5-9524-83ABDB27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8F33E-20E6-45B6-A632-E12C062E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BE265-30E7-4CFD-BB13-A1C7DB1B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19850-664C-4F94-8378-A92D4F62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61859-4338-49F3-80BD-059871B7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E4E46-FAB9-4E95-A4E8-FDF44577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2C583-1669-47CC-8B51-6EE63A7D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F70CA-808F-4AA6-B293-659960EA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5D966-C366-4B65-94FE-4620AE76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9CBB5-F437-4F22-8C8E-E71473D7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1F918-42B9-4D50-8F6A-1DCA9AD5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2B46-7C46-44C8-BBDC-D555E115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3DCFD-EAD9-4B22-84C6-720DB293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C5688-C8D1-4781-B383-FEEAB0A5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63053-352E-4755-8EA6-528AF56B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9ACE5-9D06-4FDB-9C79-2C815C66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8A051-BBDF-4C9F-A446-AE332416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79AE0-3393-4B07-B9F9-F633F661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B033E-B38F-463A-8CB8-265C8865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F5E0F-E183-47F9-A167-A502C464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816FD-6658-46A5-BCDC-BC88D626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28110-3BBB-4F3A-A731-A988CF94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DC28-19DF-4E84-9F83-F16DF2DF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1BCEC-FC58-48CF-8929-4BBEE87A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933AE-4DA2-4CD1-AB88-B9285BBF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02B73-678E-4F98-A9C4-EAE7A808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31153-DE93-45D1-8C9C-3BAB23BE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DC9E5-D573-4931-A52F-F17CD39F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5211-CDEE-4978-BED2-09BA6404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18AF-9915-4278-8CC5-AD6C102BFFB7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3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円/楕円 15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60" name="円/楕円 15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円/楕円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050B-2ABB-4EB4-8794-61847AED8148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正方形/長方形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円/楕円 1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7" name="円/楕円 1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円/楕円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9566-E117-4E5E-B9A2-CB5DEE1411AE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A585-4CC6-448D-9F24-3B7F789BB09D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正方形/長方形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1656-F853-4045-9910-D94DA7E0D6AD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F23F-BE5A-42B0-8B3E-80BB7D9D3B23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正方形/長方形 15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7" name="正方形/長方形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フローチャート: 処理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フローチャート: 処理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3F79-518B-45C4-AB1D-669397B9F62B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720" y="1714320"/>
            <a:ext cx="776448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2010</a:t>
            </a: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年度　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</a:t>
            </a:r>
            <a:br>
              <a:rPr sz="4300"/>
            </a:b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広告事業案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28840" y="42858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　山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修正履歴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071720" y="1447920"/>
          <a:ext cx="7862760" cy="1112760"/>
        </p:xfrm>
        <a:graphic>
          <a:graphicData uri="http://schemas.openxmlformats.org/drawingml/2006/table">
            <a:tbl>
              <a:tblPr/>
              <a:tblGrid>
                <a:gridCol w="1123920"/>
                <a:gridCol w="1122120"/>
                <a:gridCol w="4562640"/>
                <a:gridCol w="1054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日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修正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備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2010/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山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・初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2010/3/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山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・修正（ページ追加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広告事業案につい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85920" y="1447560"/>
            <a:ext cx="7648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目的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正会員である企業様にとって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入会のメリット」が分かりづらい事が課題となっている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また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運営を続けていくためには専任の従業員の存続も必要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この事業案は、上記２つの課題を解決するための１つの方法として提案するものである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施行方法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年度正会員・法人会員の会費をお支払いの企業様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企業様のアピールしたい項目を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P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へ無料で記載する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年毎に見直し。修正自由。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ki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で行う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年度にブログ（技術ブログ、営業ブログ等）を掲載する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ブログの横に広告枠を設けてそこに広告を張り収益を上げたい→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年度は試験運用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将来にむけて、企業間の仕事のコミュニケーションツールを提供したい（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の当初の思惑である、仲介業）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課題と対策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課題と対策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のアクセス数を調べる必要があ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oogle Analy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を使って調べ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のアクセス数を増やす必要があ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O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対策を行いアクセス数を増や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魅力ある内容を載せる（技術、動向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九州にいないとわからないような情報を載せたい→どんな情報がある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2/26-3/28</a:t>
            </a: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までの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アクセス数の推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Object 2"/>
          <p:cNvGraphicFramePr/>
          <p:nvPr/>
        </p:nvGraphicFramePr>
        <p:xfrm>
          <a:off x="2428920" y="1428840"/>
          <a:ext cx="5357880" cy="758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1428840"/>
                    <a:ext cx="5357880" cy="758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現在の順位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(google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0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日調べ　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組込み」で検索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8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組込みソフトウェア」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3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位以内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ページ目）を目指す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0:29:00Z</dcterms:created>
  <dc:creator>yamashita</dc:creator>
  <dc:description/>
  <dc:language>en-US</dc:language>
  <cp:lastModifiedBy>yamashita</cp:lastModifiedBy>
  <dcterms:modified xsi:type="dcterms:W3CDTF">2010-03-30T07:37:41Z</dcterms:modified>
  <cp:revision>224</cp:revision>
  <dc:subject/>
  <dc:title>ETロボコン2009 九州地区反省と来年度について</dc:title>
</cp:coreProperties>
</file>