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1850A-77D7-4BC9-B464-D3F36C0EE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2DFDD-088D-4520-AF91-EE7FF6A1C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FC18A-F3F4-4A54-838D-295A8184E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ED77C-E7D9-421D-95F0-D2ED867D7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3BAE3D-6D58-49E8-9E30-CB4161C392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D35E5-3F65-42DA-B7F9-A56E72F2C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C08C9-B967-4606-9921-01DDE009D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8B8AF-F3EC-480A-A265-D7F8AD6F6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19CFA-BCF6-4C72-98D5-523C10F9A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B0CAA-8083-4897-9BA7-0C0E03206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484C8-BECD-4C08-8558-3A7F860D2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A9716-A43D-4FB8-B0AC-E532F8FE8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DDD73-9AC6-4CD0-9A4F-EE6857A0E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C10E4-930E-4F7E-BD4D-CFFE18EA1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A5EF8-6F4B-4223-B3FC-2523D3829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C53829-75C7-4639-A131-88BE18A63C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74FF77-4B04-4CEE-AB85-2FF6B870DB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82FA87-C430-4ED3-98F0-007DEEBB16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AAD92C-3BF3-45F3-BD67-C7E376CB74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380CD8-B30B-44B6-83A5-A34FE21B43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8DA4FC-D870-4144-A45E-33280E20CA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3DC317-5364-4041-B0FA-38A09FF890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7E311-C12D-41A4-89E8-B7736BC47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717F79-04E9-408A-BC7F-5ABE0A11A3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C0696C-E992-475E-A274-E52AC8DE46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200DBC-086A-4471-9101-49EF1C1A4F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2F5DBE-B07F-46AF-B90E-1D3F1EC964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C687E4-ED47-420C-9A12-186F6C9F78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E39671-2B4B-4A17-9115-6154049985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89B912-1C9F-4024-BB8A-357201D340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F52D08-0347-4EC5-87BB-12E6E3A300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EC75AC-479D-4ECE-9CE0-16C44FB70D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F889C6-DF39-4958-BDBA-4A54F98E4E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3A004-1823-4FEE-95AC-3D047CD00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73D9F4-527B-41A2-8BD7-9CF7232B3D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9304F9-966D-483E-9FAB-74ABCFDFC5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579936-5298-4BF4-B730-EE496EC44B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EB7053-F23C-4CC6-8215-8BFD85A51C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F7704B-DFA3-493D-A197-AC63601C24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1C4B15-5277-41FB-A95F-65F154A48D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FCCE13-0764-45F8-821A-531B8D4FA8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2751F2-CEEB-4B0B-8E9F-9A916AF875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A00257-8DEA-4840-B4D7-D3AFFF4E5C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149A8B-6066-4EF3-9A6A-A85E00A41A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D41C5-4D6E-4701-80D4-8C10FB4CA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1F9F07-2EEE-4EDA-9046-7532D99468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A43EFC-BDD3-4006-84B3-DB9401A010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E728DA-E593-4765-973F-D317C2D37A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202BFB-D1E6-482A-B492-B2D0AB1097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72230D-DB93-4AF9-ACFD-827F1AB8EF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D5F633-A33D-46F5-8375-A6BB4360A6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795C6D-D220-4C4F-A822-37394662E8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241069-5F0B-4C44-875F-DB1D821894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F1CF7F-E577-4A5C-BF4D-592104AA9B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5D96E9-A490-49FA-B650-7F53FA5078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97FFE-0A8B-41AC-9488-CC17D05FE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8D23CB-393C-4292-A231-54915A9638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D79E41-56A5-4290-B0B7-906BC3D76D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22C29F-7752-43F1-B06D-E5746E3912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83F1CD-6B49-4DE1-AE9C-9F8661A60C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86B35B-ADA3-41CC-995C-D76F67530D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B007E7-AC7F-4CC0-BF0B-FEB51B9A41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F7F3BE-9A8F-4D3B-B50A-26C1802244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005CBA-2CFA-4AB3-B82A-E4E1F5A1E0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A0D91F-6656-44E3-A8C5-89485ACEEE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D9884A-4A7E-4A46-921A-1138645692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4223C-B99B-4153-A299-BDC997472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34DD02-BB21-48AF-8DFA-591BF0BC6E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4F4482-F39E-412A-BE22-CBD109630C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EFE5F5-0690-4A01-B96F-BB8E2B26D7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AFDBC1-73A3-4833-B531-49BD906A89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219B6D-D142-4582-B715-58CA30ACC5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17E56A-4DDD-4A0D-90C0-F4969C30F2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4084E1-EBCE-46E2-B267-F359809B3C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193809-97BF-4930-9329-7CD8D4FFD8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3D431D-02F9-48BA-8B1D-F8316181C1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4DE4D4-5536-4CFF-8CF2-6DC89E84E6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674DC-8C77-46FD-B066-16ABFD47F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243796-762E-4ADB-9A41-791ABE133B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BC9217-D6DB-4BDF-9A5D-34C9B2F0D0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4929A5-2CEC-43C8-8FBE-914CAF82B7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2FDBA7-5F74-4018-A590-B6B6804DA0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F2B804-E166-40DA-BEA6-DB85BBB429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B7329-519D-4692-910A-89854A05B7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ドーナツ 10"/>
          <p:cNvGrpSpPr/>
          <p:nvPr/>
        </p:nvGrpSpPr>
        <p:grpSpPr>
          <a:xfrm>
            <a:off x="165240" y="1036800"/>
            <a:ext cx="1170000" cy="1170000"/>
            <a:chOff x="165240" y="1036800"/>
            <a:chExt cx="1170000" cy="1170000"/>
          </a:xfrm>
        </p:grpSpPr>
        <p:pic>
          <p:nvPicPr>
            <p:cNvPr id="3" name="ドーナツ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B0E80-5902-476E-98A3-6FEA1799462F}"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
        <p:nvSpPr>
          <p:cNvPr id="11"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 name="Picture 2" descr="C:\DATA\マイピクチャ\logo2.jpg"/>
          <p:cNvPicPr/>
          <p:nvPr/>
        </p:nvPicPr>
        <p:blipFill>
          <a:blip r:embed="rId4"/>
          <a:stretch/>
        </p:blipFill>
        <p:spPr>
          <a:xfrm>
            <a:off x="7738920" y="0"/>
            <a:ext cx="1405080" cy="428760"/>
          </a:xfrm>
          <a:prstGeom prst="rect">
            <a:avLst/>
          </a:prstGeom>
          <a:ln w="0">
            <a:noFill/>
          </a:ln>
        </p:spPr>
      </p:pic>
      <p:sp>
        <p:nvSpPr>
          <p:cNvPr id="13" name="正方形/長方形 13"/>
          <p:cNvSpPr/>
          <p:nvPr/>
        </p:nvSpPr>
        <p:spPr>
          <a:xfrm>
            <a:off x="857160" y="6488280"/>
            <a:ext cx="742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HGｺﾞｼｯｸE"/>
              </a:rPr>
              <a:t>Kyushu Embedded Software Technology Consortium(QUES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ドーナツ 10"/>
          <p:cNvGrpSpPr/>
          <p:nvPr/>
        </p:nvGrpSpPr>
        <p:grpSpPr>
          <a:xfrm>
            <a:off x="165240" y="1036800"/>
            <a:ext cx="1170000" cy="1170000"/>
            <a:chOff x="165240" y="1036800"/>
            <a:chExt cx="1170000" cy="1170000"/>
          </a:xfrm>
        </p:grpSpPr>
        <p:pic>
          <p:nvPicPr>
            <p:cNvPr id="53" name="ドーナツ 10" descr=""/>
            <p:cNvPicPr/>
            <p:nvPr/>
          </p:nvPicPr>
          <p:blipFill>
            <a:blip r:embed="rId3"/>
            <a:stretch/>
          </p:blipFill>
          <p:spPr>
            <a:xfrm>
              <a:off x="165240" y="1036800"/>
              <a:ext cx="1170000" cy="1170000"/>
            </a:xfrm>
            <a:prstGeom prst="rect">
              <a:avLst/>
            </a:prstGeom>
            <a:ln w="0">
              <a:noFill/>
            </a:ln>
          </p:spPr>
        </p:pic>
        <p:sp>
          <p:nvSpPr>
            <p:cNvPr id="5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2" descr="C:\DATA\マイピクチャ\logo2.jpg"/>
          <p:cNvPicPr/>
          <p:nvPr/>
        </p:nvPicPr>
        <p:blipFill>
          <a:blip r:embed="rId4"/>
          <a:stretch/>
        </p:blipFill>
        <p:spPr>
          <a:xfrm>
            <a:off x="7738920" y="0"/>
            <a:ext cx="1405080" cy="428760"/>
          </a:xfrm>
          <a:prstGeom prst="rect">
            <a:avLst/>
          </a:prstGeom>
          <a:ln w="0">
            <a:noFill/>
          </a:ln>
        </p:spPr>
      </p:pic>
      <p:sp>
        <p:nvSpPr>
          <p:cNvPr id="58" name="正方形/長方形 13"/>
          <p:cNvSpPr/>
          <p:nvPr/>
        </p:nvSpPr>
        <p:spPr>
          <a:xfrm>
            <a:off x="857160" y="6488280"/>
            <a:ext cx="742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HGｺﾞｼｯｸE"/>
              </a:rPr>
              <a:t>Kyushu Embedded Software Technology Consortium(QUEST)</a:t>
            </a:r>
            <a:endParaRPr b="0" lang="en-US" sz="1800" spc="-1" strike="noStrike">
              <a:solidFill>
                <a:srgbClr val="000000"/>
              </a:solidFill>
              <a:latin typeface="Arial"/>
            </a:endParaRPr>
          </a:p>
        </p:txBody>
      </p:sp>
      <p:grpSp>
        <p:nvGrpSpPr>
          <p:cNvPr id="59" name="円/楕円 15"/>
          <p:cNvGrpSpPr/>
          <p:nvPr/>
        </p:nvGrpSpPr>
        <p:grpSpPr>
          <a:xfrm>
            <a:off x="914400" y="1407960"/>
            <a:ext cx="231840" cy="225720"/>
            <a:chOff x="914400" y="1407960"/>
            <a:chExt cx="231840" cy="225720"/>
          </a:xfrm>
        </p:grpSpPr>
        <p:pic>
          <p:nvPicPr>
            <p:cNvPr id="60" name="円/楕円 15" descr=""/>
            <p:cNvPicPr/>
            <p:nvPr/>
          </p:nvPicPr>
          <p:blipFill>
            <a:blip r:embed="rId5"/>
            <a:stretch/>
          </p:blipFill>
          <p:spPr>
            <a:xfrm>
              <a:off x="914400" y="1407960"/>
              <a:ext cx="231840" cy="225720"/>
            </a:xfrm>
            <a:prstGeom prst="rect">
              <a:avLst/>
            </a:prstGeom>
            <a:ln w="0">
              <a:noFill/>
            </a:ln>
          </p:spPr>
        </p:pic>
        <p:sp>
          <p:nvSpPr>
            <p:cNvPr id="6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円/楕円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5"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26E2E-E093-4E89-9C8E-09A10A4188AD}"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正方形/長方形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正方形/長方形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円/楕円 17"/>
          <p:cNvGrpSpPr/>
          <p:nvPr/>
        </p:nvGrpSpPr>
        <p:grpSpPr>
          <a:xfrm>
            <a:off x="2163600" y="2809800"/>
            <a:ext cx="231840" cy="225360"/>
            <a:chOff x="2163600" y="2809800"/>
            <a:chExt cx="231840" cy="225360"/>
          </a:xfrm>
        </p:grpSpPr>
        <p:pic>
          <p:nvPicPr>
            <p:cNvPr id="107" name="円/楕円 17" descr=""/>
            <p:cNvPicPr/>
            <p:nvPr/>
          </p:nvPicPr>
          <p:blipFill>
            <a:blip r:embed="rId3"/>
            <a:stretch/>
          </p:blipFill>
          <p:spPr>
            <a:xfrm>
              <a:off x="2163600" y="2809800"/>
              <a:ext cx="231840" cy="225360"/>
            </a:xfrm>
            <a:prstGeom prst="rect">
              <a:avLst/>
            </a:prstGeom>
            <a:ln w="0">
              <a:noFill/>
            </a:ln>
          </p:spPr>
        </p:pic>
        <p:sp>
          <p:nvSpPr>
            <p:cNvPr id="10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円/楕円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1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6B6AA-D4DB-4AE7-9B4C-1A973B0FFBA7}"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3"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2EE6E-0C8A-4BCC-BA5B-301A78DAADB4}"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正方形/長方形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正方形/長方形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6"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97"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DA12-BC60-4A92-9CE4-ECCABB415F98}"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7"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38"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8FA86-1406-48D8-BBC0-05F774B2128C}"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6" name="正方形/長方形 15"/>
          <p:cNvGrpSpPr/>
          <p:nvPr/>
        </p:nvGrpSpPr>
        <p:grpSpPr>
          <a:xfrm>
            <a:off x="646200" y="969840"/>
            <a:ext cx="4803840" cy="4802400"/>
            <a:chOff x="646200" y="969840"/>
            <a:chExt cx="4803840" cy="4802400"/>
          </a:xfrm>
        </p:grpSpPr>
        <p:pic>
          <p:nvPicPr>
            <p:cNvPr id="277" name="正方形/長方形 15" descr=""/>
            <p:cNvPicPr/>
            <p:nvPr/>
          </p:nvPicPr>
          <p:blipFill>
            <a:blip r:embed="rId3"/>
            <a:stretch/>
          </p:blipFill>
          <p:spPr>
            <a:xfrm>
              <a:off x="646200" y="969840"/>
              <a:ext cx="4803840" cy="4802400"/>
            </a:xfrm>
            <a:prstGeom prst="rect">
              <a:avLst/>
            </a:prstGeom>
            <a:ln w="0">
              <a:noFill/>
            </a:ln>
          </p:spPr>
        </p:pic>
        <p:sp>
          <p:nvSpPr>
            <p:cNvPr id="27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フローチャート: 処理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フローチャート: 処理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8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A9465-4338-4A19-B3D7-BB60EDF38114}"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71720" y="1714320"/>
            <a:ext cx="7764480" cy="1685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2010</a:t>
            </a:r>
            <a:r>
              <a:rPr b="0" lang="ja-JP" sz="4300" spc="-1" strike="noStrike">
                <a:solidFill>
                  <a:srgbClr val="572314"/>
                </a:solidFill>
                <a:latin typeface="Gill Sans MT"/>
              </a:rPr>
              <a:t>年度　</a:t>
            </a:r>
            <a:br>
              <a:rPr sz="4300"/>
            </a:br>
            <a:r>
              <a:rPr b="0" lang="en-US" sz="4300" spc="-1" strike="noStrike">
                <a:solidFill>
                  <a:srgbClr val="572314"/>
                </a:solidFill>
                <a:latin typeface="Gill Sans MT"/>
              </a:rPr>
              <a:t>GreenETChallenge</a:t>
            </a:r>
            <a:r>
              <a:rPr b="0" lang="ja-JP" sz="4300" spc="-1" strike="noStrike">
                <a:solidFill>
                  <a:srgbClr val="572314"/>
                </a:solidFill>
                <a:latin typeface="Gill Sans MT"/>
              </a:rPr>
              <a:t>案</a:t>
            </a:r>
            <a:endParaRPr b="0" lang="en-US" sz="4300" spc="-1" strike="noStrike">
              <a:solidFill>
                <a:srgbClr val="572314"/>
              </a:solidFill>
              <a:latin typeface="Gill Sans MT"/>
            </a:endParaRPr>
          </a:p>
        </p:txBody>
      </p:sp>
      <p:sp>
        <p:nvSpPr>
          <p:cNvPr id="323" name="PlaceHolder 2"/>
          <p:cNvSpPr>
            <a:spLocks noGrp="1"/>
          </p:cNvSpPr>
          <p:nvPr>
            <p:ph type="subTitle"/>
          </p:nvPr>
        </p:nvSpPr>
        <p:spPr>
          <a:xfrm>
            <a:off x="1428840" y="4285800"/>
            <a:ext cx="7407360" cy="1752840"/>
          </a:xfrm>
          <a:prstGeom prst="rect">
            <a:avLst/>
          </a:prstGeom>
          <a:noFill/>
          <a:ln w="0">
            <a:noFill/>
          </a:ln>
        </p:spPr>
        <p:txBody>
          <a:bodyPr tIns="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2010</a:t>
            </a:r>
            <a:r>
              <a:rPr b="0" lang="ja-JP" sz="2600" spc="-1" strike="noStrike">
                <a:solidFill>
                  <a:srgbClr val="320e04"/>
                </a:solidFill>
                <a:latin typeface="Gill Sans MT"/>
              </a:rPr>
              <a:t>年</a:t>
            </a:r>
            <a:r>
              <a:rPr b="0" lang="en-US" sz="2600" spc="-1" strike="noStrike">
                <a:solidFill>
                  <a:srgbClr val="320e04"/>
                </a:solidFill>
                <a:latin typeface="Gill Sans MT"/>
              </a:rPr>
              <a:t>3</a:t>
            </a:r>
            <a:r>
              <a:rPr b="0" lang="ja-JP" sz="2600" spc="-1" strike="noStrike">
                <a:solidFill>
                  <a:srgbClr val="320e04"/>
                </a:solidFill>
                <a:latin typeface="Gill Sans MT"/>
              </a:rPr>
              <a:t>月</a:t>
            </a:r>
            <a:r>
              <a:rPr b="0" lang="en-US" sz="2600" spc="-1" strike="noStrike">
                <a:solidFill>
                  <a:srgbClr val="320e04"/>
                </a:solidFill>
                <a:latin typeface="Gill Sans MT"/>
              </a:rPr>
              <a:t>30</a:t>
            </a:r>
            <a:r>
              <a:rPr b="0" lang="ja-JP" sz="2600" spc="-1" strike="noStrike">
                <a:solidFill>
                  <a:srgbClr val="320e04"/>
                </a:solidFill>
                <a:latin typeface="Gill Sans MT"/>
              </a:rPr>
              <a:t>日</a:t>
            </a:r>
            <a:endParaRPr b="0" lang="en-US" sz="2600" spc="-1" strike="noStrike">
              <a:solidFill>
                <a:srgbClr val="000000"/>
              </a:solidFill>
              <a:latin typeface="Gill Sans MT"/>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QUEST</a:t>
            </a:r>
            <a:r>
              <a:rPr b="0" lang="ja-JP" sz="2600" spc="-1" strike="noStrike">
                <a:solidFill>
                  <a:srgbClr val="320e04"/>
                </a:solidFill>
                <a:latin typeface="Gill Sans MT"/>
              </a:rPr>
              <a:t>　山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修正履歴</a:t>
            </a:r>
            <a:endParaRPr b="0" lang="en-US" sz="4300" spc="-1" strike="noStrike">
              <a:solidFill>
                <a:srgbClr val="572314"/>
              </a:solidFill>
              <a:latin typeface="Gill Sans MT"/>
            </a:endParaRPr>
          </a:p>
        </p:txBody>
      </p:sp>
      <p:graphicFrame>
        <p:nvGraphicFramePr>
          <p:cNvPr id="325" name=""/>
          <p:cNvGraphicFramePr/>
          <p:nvPr/>
        </p:nvGraphicFramePr>
        <p:xfrm>
          <a:off x="1071720" y="1447920"/>
          <a:ext cx="7862760" cy="1112760"/>
        </p:xfrm>
        <a:graphic>
          <a:graphicData uri="http://schemas.openxmlformats.org/drawingml/2006/table">
            <a:tbl>
              <a:tblPr/>
              <a:tblGrid>
                <a:gridCol w="1123920"/>
                <a:gridCol w="1122120"/>
                <a:gridCol w="4562640"/>
                <a:gridCol w="105408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日付</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修正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内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備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HGｺﾞｼｯｸE"/>
                        </a:rPr>
                        <a:t>2010/3/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ea typeface="HGｺﾞｼｯｸE"/>
                        </a:rPr>
                        <a:t>山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ea typeface="HGｺﾞｼｯｸE"/>
                        </a:rPr>
                        <a:t>・初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基本モデル仕様変更</a:t>
            </a:r>
            <a:endParaRPr b="0" lang="en-US" sz="4300" spc="-1" strike="noStrike">
              <a:solidFill>
                <a:srgbClr val="572314"/>
              </a:solidFill>
              <a:latin typeface="Gill Sans MT"/>
            </a:endParaRPr>
          </a:p>
        </p:txBody>
      </p:sp>
      <p:sp>
        <p:nvSpPr>
          <p:cNvPr id="327" name=""/>
          <p:cNvSpPr txBox="1"/>
          <p:nvPr/>
        </p:nvSpPr>
        <p:spPr>
          <a:xfrm>
            <a:off x="856800" y="1447920"/>
            <a:ext cx="8286840" cy="512424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従来（２月仕様）</a:t>
            </a:r>
            <a:endParaRPr b="0" lang="en-US" sz="3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ボタン押下でスタート、もう一回押下でストッ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スタートは</a:t>
            </a:r>
            <a:r>
              <a:rPr b="0" lang="en-US" sz="2200" spc="-1" strike="noStrike">
                <a:solidFill>
                  <a:srgbClr val="000000"/>
                </a:solidFill>
                <a:latin typeface="Gill Sans MT"/>
              </a:rPr>
              <a:t>OK</a:t>
            </a:r>
            <a:r>
              <a:rPr b="0" lang="ja-JP" sz="2200" spc="-1" strike="noStrike">
                <a:solidFill>
                  <a:srgbClr val="000000"/>
                </a:solidFill>
                <a:latin typeface="Gill Sans MT"/>
              </a:rPr>
              <a:t>だが、ストップを押す時にモータの振動で続けて２回押すことがありその結果、消費電力表示が消えることが多々あった。</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7segLED</a:t>
            </a:r>
            <a:r>
              <a:rPr b="0" lang="ja-JP" sz="2600" spc="-1" strike="noStrike">
                <a:solidFill>
                  <a:srgbClr val="000000"/>
                </a:solidFill>
                <a:latin typeface="Gill Sans MT"/>
              </a:rPr>
              <a:t>で消費電力を表示</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LED</a:t>
            </a:r>
            <a:r>
              <a:rPr b="0" lang="ja-JP" sz="2200" spc="-1" strike="noStrike">
                <a:solidFill>
                  <a:srgbClr val="000000"/>
                </a:solidFill>
                <a:latin typeface="Gill Sans MT"/>
              </a:rPr>
              <a:t>は結構電力を食う。表示が薄くて見えない。一度消えると記録が見れない。大会仕様としては致命的</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回生ブレーキ無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モータを電子制御で止めても慣性である程度走ってしまうので、機敏な制御がやりにくい</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PU</a:t>
            </a:r>
            <a:r>
              <a:rPr b="0" lang="ja-JP" sz="2600" spc="-1" strike="noStrike">
                <a:solidFill>
                  <a:srgbClr val="000000"/>
                </a:solidFill>
                <a:latin typeface="Gill Sans MT"/>
              </a:rPr>
              <a:t>電源をモータ電源からとっていた</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モータ電源の電圧がだんだんと低下していくと、計測部が暴走することがあった</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基本モデル仕様変更</a:t>
            </a:r>
            <a:endParaRPr b="0" lang="en-US" sz="43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Gill Sans MT"/>
              </a:rPr>
              <a:t>今回（３月仕様）</a:t>
            </a:r>
            <a:endParaRPr b="0" lang="en-US" sz="25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パソコンから無線（</a:t>
            </a:r>
            <a:r>
              <a:rPr b="0" lang="en-US" sz="2200" spc="-1" strike="noStrike">
                <a:solidFill>
                  <a:srgbClr val="000000"/>
                </a:solidFill>
                <a:latin typeface="Gill Sans MT"/>
              </a:rPr>
              <a:t>Xbee</a:t>
            </a:r>
            <a:r>
              <a:rPr b="0" lang="ja-JP" sz="2200" spc="-1" strike="noStrike">
                <a:solidFill>
                  <a:srgbClr val="000000"/>
                </a:solidFill>
                <a:latin typeface="Gill Sans MT"/>
              </a:rPr>
              <a:t>）でスタート、ストップを操作</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indows</a:t>
            </a:r>
            <a:r>
              <a:rPr b="0" lang="ja-JP" sz="1900" spc="-1" strike="noStrike">
                <a:solidFill>
                  <a:srgbClr val="000000"/>
                </a:solidFill>
                <a:latin typeface="Gill Sans MT"/>
              </a:rPr>
              <a:t>のプログラムで操作できるようになり快適</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消費電力は無線でシリアル転送</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制御部のデバッグ情報も転送できるようになりデバッグが楽になった</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回生ブレーキを追加</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ET(</a:t>
            </a:r>
            <a:r>
              <a:rPr b="0" lang="ja-JP" sz="1900" spc="-1" strike="noStrike">
                <a:solidFill>
                  <a:srgbClr val="000000"/>
                </a:solidFill>
                <a:latin typeface="Gill Sans MT"/>
              </a:rPr>
              <a:t>電界効果トランジスタ</a:t>
            </a:r>
            <a:r>
              <a:rPr b="0" lang="en-US" sz="1900" spc="-1" strike="noStrike">
                <a:solidFill>
                  <a:srgbClr val="000000"/>
                </a:solidFill>
                <a:latin typeface="Gill Sans MT"/>
              </a:rPr>
              <a:t>)</a:t>
            </a:r>
            <a:r>
              <a:rPr b="0" lang="ja-JP" sz="1900" spc="-1" strike="noStrike">
                <a:solidFill>
                  <a:srgbClr val="000000"/>
                </a:solidFill>
                <a:latin typeface="Gill Sans MT"/>
              </a:rPr>
              <a:t>を２個追加することにより惰性時よりもブレーキがかかるようになった</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PU</a:t>
            </a:r>
            <a:r>
              <a:rPr b="0" lang="ja-JP" sz="2200" spc="-1" strike="noStrike">
                <a:solidFill>
                  <a:srgbClr val="000000"/>
                </a:solidFill>
                <a:latin typeface="Gill Sans MT"/>
              </a:rPr>
              <a:t>電源を別に用意</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モータ電源が減っても、計測部はきちんと動作</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仕様変更により、電池が増加したので筺体の見直しが必要になった</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現在は、動作確認優先のため不格好になっているが将来的には小さくしたい。</a:t>
            </a:r>
            <a:endParaRPr b="0" lang="en-US" sz="19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４月以降の計画案</a:t>
            </a:r>
            <a:endParaRPr b="0" lang="en-US" sz="4300" spc="-1" strike="noStrike">
              <a:solidFill>
                <a:srgbClr val="572314"/>
              </a:solidFill>
              <a:latin typeface="Gill Sans MT"/>
            </a:endParaRPr>
          </a:p>
        </p:txBody>
      </p:sp>
      <p:sp>
        <p:nvSpPr>
          <p:cNvPr id="331" name=""/>
          <p:cNvSpPr txBox="1"/>
          <p:nvPr/>
        </p:nvSpPr>
        <p:spPr>
          <a:xfrm>
            <a:off x="928800" y="1447560"/>
            <a:ext cx="800568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下記１）～３）を実施する</a:t>
            </a:r>
            <a:endParaRPr b="0" lang="en-US" sz="3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１）運営会議（有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主にルール作りや運営のための会議</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２周間に一度くらいの開催</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提案は</a:t>
            </a:r>
            <a:r>
              <a:rPr b="0" lang="en-US" sz="2200" spc="-1" strike="noStrike">
                <a:solidFill>
                  <a:srgbClr val="000000"/>
                </a:solidFill>
                <a:latin typeface="Gill Sans MT"/>
              </a:rPr>
              <a:t>QUEST</a:t>
            </a:r>
            <a:r>
              <a:rPr b="0" lang="ja-JP" sz="2200" spc="-1" strike="noStrike">
                <a:solidFill>
                  <a:srgbClr val="000000"/>
                </a:solidFill>
                <a:latin typeface="Gill Sans MT"/>
              </a:rPr>
              <a:t>で作成しそれを審議（有志の負担減らす）</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２）技術説明会＋試走会（有志＋選手）</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QUEST</a:t>
            </a:r>
            <a:r>
              <a:rPr b="0" lang="ja-JP" sz="2200" spc="-1" strike="noStrike">
                <a:solidFill>
                  <a:srgbClr val="000000"/>
                </a:solidFill>
                <a:latin typeface="Gill Sans MT"/>
              </a:rPr>
              <a:t>で作成してきた基本モデルの説明会</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ハードから、ソフトまで、月１回の開催（５月から８月まで開催。計４回）</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試走会のコースを設置して、説明会の後自由走行（５月は無理ぽいので６月以降）</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３）９月末に</a:t>
            </a:r>
            <a:r>
              <a:rPr b="0" lang="en-US" sz="2600" spc="-1" strike="noStrike">
                <a:solidFill>
                  <a:srgbClr val="000000"/>
                </a:solidFill>
                <a:latin typeface="Gill Sans MT"/>
              </a:rPr>
              <a:t>GreenETChallenge</a:t>
            </a:r>
            <a:r>
              <a:rPr b="0" lang="ja-JP" sz="2600" spc="-1" strike="noStrike">
                <a:solidFill>
                  <a:srgbClr val="000000"/>
                </a:solidFill>
                <a:latin typeface="Gill Sans MT"/>
              </a:rPr>
              <a:t>実施</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小さいながらも大会形式で行いたい</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00:29:00Z</dcterms:created>
  <dc:creator>yamashita</dc:creator>
  <dc:description/>
  <dc:language>en-US</dc:language>
  <cp:lastModifiedBy>yamashita</cp:lastModifiedBy>
  <dcterms:modified xsi:type="dcterms:W3CDTF">2010-03-29T05:54:59Z</dcterms:modified>
  <cp:revision>226</cp:revision>
  <dc:subject/>
  <dc:title>ETロボコン2009 九州地区反省と来年度について</dc:title>
</cp:coreProperties>
</file>