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85E62-650C-495B-B85E-A42BA2FC6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A0316-83DA-449D-8314-63E27E3F7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3FB0C-FA6A-4599-8275-0C79144D9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667E1-A60F-46E4-9780-E713836D1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59591-73E5-49B4-BB88-99B97F777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AF8E4-47F4-4A50-996B-FD9B48A59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517FA-BDBA-446F-8B81-4F27F3E46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56E40-997D-4FB1-80D6-D8C95A6AD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36E5B-528B-4092-A135-2B0297233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96088-75D0-43C7-B332-D14526ADF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C520D-310E-4747-B518-73F359DE9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73237-775B-4654-959F-51A4367B7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56D28-E880-4E4C-8598-92AC3BE278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T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ロボコン九州大会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010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運営方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1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九州大会実行委員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86D4F-AE8D-4840-9D95-3F406BF6107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方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コンパクトな運営を目指す。負担が少な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会場は、大学関係者の方々に依頼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運営は、今村さんからノウハウを教わる。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事務局はＮＰＯ　ＱＵＥＳＴが主に担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費用は、ＮＰＯ　ＱＵＥＳＴに支払う。そこか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アルバイト代など支払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副運営委員長をつく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8C18E-5D54-4651-BC6D-AA4D5AF4362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スケジュール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時期：　　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日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日　九州地区大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　　　　　＝＞　この日以外は困難（会場都合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場所：　　九州産業大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チーム数２２チーム　３月２９日現在）４月６日締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＜予定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日　第一回技術説明会（百道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I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6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日　第二回技術説明会（百道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I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日　第一回試走会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I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センター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日　第二回試走会（九州産業大学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E9EDA-A4EC-42AF-B245-1AB5A3E0805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実行委員会組織（案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907920"/>
            <a:ext cx="8507520" cy="554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顧問：吉田市長　牛島先生、　松尾会長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C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委員長：福田先生（九大）　副：芦原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A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技術委員長：有森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K)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　（＝＞技術説明会　中心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　　技術：甘田（ｺｱ）、赤山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TEC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）、小田原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K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　　審査委員長：岩崎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NE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　　審査：中西（九大）、久住（九大）、北須賀（熊大）、片山（宮大）、梶崎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AL)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、鳥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　　性能審査：松下（コア）、片平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運営委員長：　　今村さん＝＞　本部との連絡：芦原　＝＞　澤田先生、木下さん、　副運営委員長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　　　　　　　　　　　　　　　　　　　　対外折衝：芦原　　　＝＞　　澤田先生、木下さん　、副運営委員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　　　　　　　　　　　　　　　　　　　　　　　実行委員間調整：芦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　　　　　　　　　　　　　　　　　　　　　　　全体管理：芦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　　運営：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三宅（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N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）、中嶋（東海大）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、富松（電盛社）、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木下（沖通信）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、椛島（安川情報）、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澤田（九産大）、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藤原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COS)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？川津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COS)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事務局長：山下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S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）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　　　　　　事務局　原野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S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）、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瓜生（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QUEST)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アルバイト、犬塚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カタログ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P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：ティーシャツ：会場手配：本戦のときは澤田先生　会場設営指示：台本作成：　流用　参加者やり取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ボランティア：・・・・・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71D1D-2546-4730-8F5E-9A50BD9ED66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課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836640"/>
            <a:ext cx="83628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運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開催時期の決定：９月４日、５日？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&gt;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明日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日判断（澤田先生連絡による。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運営委員長の選定（今村さんからの引継ぎ）、実行委員会構成の確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事務局の強化、犬塚さん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月ま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アイシンコムクルーズの　近藤さんを実行委員会へ＝＞様子見（ボランティア、当日きてください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旅費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万円振り込みあり、その使用方法について合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日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日　連絡会議　出席者　　＝＞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日まで芦原ま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　　各担当から、福田、芦原、山下、岩崎・中西、甘田、有森（講師をする人？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　　　　　　　　　　　（福田、岩崎、中西、山下、甘田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09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年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審査合宿の予約　　＝＞　事務局に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福岡市への後援依頼　＝＞　本部　羽根田さんが手続き　＝＞完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承諾書＝＞連絡会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日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日東京に持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21EF7-AD41-4912-B9A0-181CA9E7A1E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技術教育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追加技術説明会（ＤＳＬ、コード評価）、追加試走会開催の計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　　　　　　モデル教育など　＝＞　　ＬＳＩカレッジ、ＱＵＥＳＴ教育の紹介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事前教育自前化（本部からでなく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　＝＞マニュアル通りの教育はできる。アドバイザで本部から呼ぶ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ロボコン用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C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の購入（測定用）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万？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ホームページ作成　＝＞九産大に依頼？　明日確認。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　参加者写真掲載、承諾書必要。　大学（九大）にお願い、服部さん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　ビデオとり：・・・・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メーリングリスト（今村さん管理から変更）　＝＞　すこしそのま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大会準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司会の準備　＝＞　昨年度の南さんか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コース土台（大分県で製作予定あり、１０万円）・・・・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インターネット中継（九産大の下川先生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財産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8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年度）ＭＣＣにあるものの整理：　ＬＳＩセンターを倉庫にする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5F6E3-0A9D-4B95-9D78-4FAF3A562F1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預金残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T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ロボコン九州地区実行委員会（入金口座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　　￥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85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　　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日に本部より￥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万入金予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　　＝＞運用口座に移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T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ロボコン九州地区（運用口座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　　￥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63,04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　　＝＞　＋￥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万で￥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9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　　　　　チャンピョンシップ大会への旅費補助に使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918FD-B9E4-4DF0-AC81-EA69081A14A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9T04:09:54Z</dcterms:created>
  <dc:creator>nal</dc:creator>
  <dc:description/>
  <dc:language>en-US</dc:language>
  <cp:lastModifiedBy>芦原秀一</cp:lastModifiedBy>
  <dcterms:modified xsi:type="dcterms:W3CDTF">2010-03-30T00:43:17Z</dcterms:modified>
  <cp:revision>5</cp:revision>
  <dc:subject/>
  <dc:title>ETロボコン九州大会2010 運営方針</dc:title>
</cp:coreProperties>
</file>