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B459B-5D37-41F9-AC17-644DE810B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8AB53-5203-475C-A8D2-27070FEE3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DCBEB-CB0F-4D92-858C-7A332ACB7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4B346-9C2B-4370-B3E3-B40FBB933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64295F-2F32-4B68-861A-516EA793E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D1601-C0F5-42B1-A2CD-390BDFD14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41A23-F2EC-49BD-B779-41DE92750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74109-8755-46AE-8100-B26C81ED2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46FA3-1479-486D-8538-940148FEF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29858-5F97-4B41-B6F8-A5CC3A0FE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CD8D1-B45D-4F80-9A93-865F91BBD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B7FBB-4D68-4756-9FE2-73BDB673D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FBCF1-52B6-4CBA-805B-31444272B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33626-465C-46B7-8BC0-8FD1813B2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CF0B9-EDEA-468C-98E4-84D882FC6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401F4-1A12-498F-9521-9F49A67588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A0E9AC-2728-4F97-A01A-0DDC7A23E0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6336D3-7084-41C6-8A5E-6D9959C2A0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9C39E4-1AF8-4FB0-9674-9DCCCEBEBC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4E5346-B345-44DF-90EB-62BE9A8C29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A1186D-21C8-4DF7-96E6-F66262F288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0D642A-9D07-4494-AA93-F6BE254177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C80AF-B528-4316-A414-2076E874D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EDEA23-D2B8-4B08-B9B7-994580E3C6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43B15D-8C27-45D9-BB22-823DEC8A5D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5CCF1C-AA75-439B-BC26-DE29F5328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C4B15F-A9A2-4356-B60B-EBBF2AB67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460EA5-15D4-4461-B21B-0DACAE5BC9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DE9C82-EB06-4B3E-8A17-0A36A00B52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B78FBE-5F92-4CC8-A2C6-D129EEA8AA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6DE708-DC48-4EFB-A708-95B3D289F2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3ABB82-01CA-40B7-B988-3AC874C1C7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465612-0BEF-4B9D-80A3-157E0B2DE3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3EEA0-710C-476A-B5A3-7B46FE8C1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09BAC5-F833-4512-8EEA-9E5AB67F8B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97620D-F7A2-4CC6-AC03-D364E8F4B0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44621F-0F1C-4F76-85CA-8E93510C0C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7C6E22-19A4-4A85-B2F9-4B25D3DFC8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D2370F-85D8-4CB6-A980-D6D8957A43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746660-4C0C-4D9A-A06F-6B3181275E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2A5BEA-B2C8-43A9-8CB3-D11FD117EF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5A48F3-5131-4F12-8E8D-E497FF41EF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24D8DD-F1C9-41FA-935E-D8F10289AE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FE8592-A62F-4366-B0BC-82AE556715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92A80-C2B4-412B-BA3C-5D3D47B5A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2D8339-9718-44D6-BEF8-D6F66560EE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B2FF35-FEDA-4882-8200-FB421E4A3D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D4C773-F5E6-42C1-BBE3-352A3F9578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9C8B80-4F13-4E9D-B8E4-2EBB2DDD4D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1890CB-6924-4F24-89B1-7E58200C00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08F624-939A-4214-B641-6D0C0612E7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1F1A78-74D9-4DBA-8575-6DB43FF0DA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C14A39-C634-4609-949A-331D496F05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8FB4E1-9BD8-4DDF-8284-36357F619D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9172A8-1337-484B-BEA1-A22E15310A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CA605-2735-4B7C-AF8D-D92BC5857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E261A3-26AB-43E2-A6AA-328C245C2F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37DBEA-AB40-431F-9C40-F0697C25C3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92CC52-E5E8-4C0F-9E13-C600E60A53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98F7BC-D1D6-471A-9FB9-B68B4C4F5A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ED1C60-051F-4B75-A62B-583558C4B2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DC5C46-9BA3-4413-8A2D-3A56ED3B2E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9531BD-E15A-4C07-9832-6ABAF8D3DC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7C3DDF-522E-49AD-A211-BFD8C11F4D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1D86DD-A04C-4F4F-AB3D-7F36C300B9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7ECE07-634F-4DA8-83B4-7915E8A182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76D31-6346-4651-A013-808D8347C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007BB1-3ED2-42D2-9506-01D4CB1927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26A275-4C5A-418E-B871-265293FB1B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9D1CF0-F60A-4801-84AB-D9F9EDD412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930AB7-E165-43AC-8D2B-49E187ADEF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FD5AC7-F533-4536-8525-A5D6DBA350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AF5066-71BB-4D62-A3FA-C51D07EEA2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7C24F4-F883-4409-8E1D-566F1FDD33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409A24-319B-4043-9AD9-4901E83B41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C1D491-B91E-437C-A48C-96BFDBD317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808774-4801-4CDD-81A5-F62ABB1AF7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04A03-52E3-40C0-B758-F9979E1F9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3A65E4-286F-42EC-9749-5425380F5D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5C37D4-1DE5-4E6C-A72C-42FBBDB955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F614D4-F820-4494-AD2E-54BC65204C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8049F2-150F-4D3A-9401-F08E10C246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267BFB-2CC3-42B9-BCFF-B84FD6FCDE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A4822-4E51-4574-B6E8-42038168F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ドーナツ 10"/>
          <p:cNvGrpSpPr/>
          <p:nvPr/>
        </p:nvGrpSpPr>
        <p:grpSpPr>
          <a:xfrm>
            <a:off x="165240" y="1036800"/>
            <a:ext cx="1170000" cy="1170000"/>
            <a:chOff x="165240" y="1036800"/>
            <a:chExt cx="1170000" cy="1170000"/>
          </a:xfrm>
        </p:grpSpPr>
        <p:pic>
          <p:nvPicPr>
            <p:cNvPr id="3" name="ドーナツ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EE91-4302-4A22-8711-FCC1F3488470}"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
        <p:nvSpPr>
          <p:cNvPr id="11"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 name="Picture 2" descr="C:\DATA\マイピクチャ\logo2.jpg"/>
          <p:cNvPicPr/>
          <p:nvPr/>
        </p:nvPicPr>
        <p:blipFill>
          <a:blip r:embed="rId4"/>
          <a:stretch/>
        </p:blipFill>
        <p:spPr>
          <a:xfrm>
            <a:off x="7738920" y="0"/>
            <a:ext cx="1405080" cy="428760"/>
          </a:xfrm>
          <a:prstGeom prst="rect">
            <a:avLst/>
          </a:prstGeom>
          <a:ln w="0">
            <a:noFill/>
          </a:ln>
        </p:spPr>
      </p:pic>
      <p:sp>
        <p:nvSpPr>
          <p:cNvPr id="13"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ドーナツ 10"/>
          <p:cNvGrpSpPr/>
          <p:nvPr/>
        </p:nvGrpSpPr>
        <p:grpSpPr>
          <a:xfrm>
            <a:off x="165240" y="1036800"/>
            <a:ext cx="1170000" cy="1170000"/>
            <a:chOff x="165240" y="1036800"/>
            <a:chExt cx="1170000" cy="1170000"/>
          </a:xfrm>
        </p:grpSpPr>
        <p:pic>
          <p:nvPicPr>
            <p:cNvPr id="53" name="ドーナツ 10" descr=""/>
            <p:cNvPicPr/>
            <p:nvPr/>
          </p:nvPicPr>
          <p:blipFill>
            <a:blip r:embed="rId3"/>
            <a:stretch/>
          </p:blipFill>
          <p:spPr>
            <a:xfrm>
              <a:off x="165240" y="1036800"/>
              <a:ext cx="1170000" cy="1170000"/>
            </a:xfrm>
            <a:prstGeom prst="rect">
              <a:avLst/>
            </a:prstGeom>
            <a:ln w="0">
              <a:noFill/>
            </a:ln>
          </p:spPr>
        </p:pic>
        <p:sp>
          <p:nvSpPr>
            <p:cNvPr id="5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C:\DATA\マイピクチャ\logo2.jpg"/>
          <p:cNvPicPr/>
          <p:nvPr/>
        </p:nvPicPr>
        <p:blipFill>
          <a:blip r:embed="rId4"/>
          <a:stretch/>
        </p:blipFill>
        <p:spPr>
          <a:xfrm>
            <a:off x="7738920" y="0"/>
            <a:ext cx="1405080" cy="428760"/>
          </a:xfrm>
          <a:prstGeom prst="rect">
            <a:avLst/>
          </a:prstGeom>
          <a:ln w="0">
            <a:noFill/>
          </a:ln>
        </p:spPr>
      </p:pic>
      <p:sp>
        <p:nvSpPr>
          <p:cNvPr id="58"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grpSp>
        <p:nvGrpSpPr>
          <p:cNvPr id="59" name="円/楕円 15"/>
          <p:cNvGrpSpPr/>
          <p:nvPr/>
        </p:nvGrpSpPr>
        <p:grpSpPr>
          <a:xfrm>
            <a:off x="914400" y="1407960"/>
            <a:ext cx="231840" cy="225720"/>
            <a:chOff x="914400" y="1407960"/>
            <a:chExt cx="231840" cy="225720"/>
          </a:xfrm>
        </p:grpSpPr>
        <p:pic>
          <p:nvPicPr>
            <p:cNvPr id="60" name="円/楕円 15" descr=""/>
            <p:cNvPicPr/>
            <p:nvPr/>
          </p:nvPicPr>
          <p:blipFill>
            <a:blip r:embed="rId5"/>
            <a:stretch/>
          </p:blipFill>
          <p:spPr>
            <a:xfrm>
              <a:off x="914400" y="1407960"/>
              <a:ext cx="231840" cy="225720"/>
            </a:xfrm>
            <a:prstGeom prst="rect">
              <a:avLst/>
            </a:prstGeom>
            <a:ln w="0">
              <a:noFill/>
            </a:ln>
          </p:spPr>
        </p:pic>
        <p:sp>
          <p:nvSpPr>
            <p:cNvPr id="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円/楕円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5"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FF82-DF19-4552-8A1B-809D6A169EFB}"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正方形/長方形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正方形/長方形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円/楕円 17"/>
          <p:cNvGrpSpPr/>
          <p:nvPr/>
        </p:nvGrpSpPr>
        <p:grpSpPr>
          <a:xfrm>
            <a:off x="2163600" y="2809800"/>
            <a:ext cx="231840" cy="225360"/>
            <a:chOff x="2163600" y="2809800"/>
            <a:chExt cx="231840" cy="225360"/>
          </a:xfrm>
        </p:grpSpPr>
        <p:pic>
          <p:nvPicPr>
            <p:cNvPr id="107" name="円/楕円 17" descr=""/>
            <p:cNvPicPr/>
            <p:nvPr/>
          </p:nvPicPr>
          <p:blipFill>
            <a:blip r:embed="rId3"/>
            <a:stretch/>
          </p:blipFill>
          <p:spPr>
            <a:xfrm>
              <a:off x="2163600" y="2809800"/>
              <a:ext cx="231840" cy="225360"/>
            </a:xfrm>
            <a:prstGeom prst="rect">
              <a:avLst/>
            </a:prstGeom>
            <a:ln w="0">
              <a:noFill/>
            </a:ln>
          </p:spPr>
        </p:pic>
        <p:sp>
          <p:nvSpPr>
            <p:cNvPr id="10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円/楕円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1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3843-83A0-4289-B8F3-972E175C44B8}"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3"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5910-E9A6-4DBB-B9BA-FB3E6E5BC40F}"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正方形/長方形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正方形/長方形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6"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97"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92FDB-BF06-491C-BC51-7EDEF9673DD6}"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7"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38"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D9F5-D942-4CB8-A9AF-5BFB5328605B}"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6" name="正方形/長方形 15"/>
          <p:cNvGrpSpPr/>
          <p:nvPr/>
        </p:nvGrpSpPr>
        <p:grpSpPr>
          <a:xfrm>
            <a:off x="646200" y="969840"/>
            <a:ext cx="4803840" cy="4802400"/>
            <a:chOff x="646200" y="969840"/>
            <a:chExt cx="4803840" cy="4802400"/>
          </a:xfrm>
        </p:grpSpPr>
        <p:pic>
          <p:nvPicPr>
            <p:cNvPr id="277" name="正方形/長方形 15" descr=""/>
            <p:cNvPicPr/>
            <p:nvPr/>
          </p:nvPicPr>
          <p:blipFill>
            <a:blip r:embed="rId3"/>
            <a:stretch/>
          </p:blipFill>
          <p:spPr>
            <a:xfrm>
              <a:off x="646200" y="969840"/>
              <a:ext cx="4803840" cy="4802400"/>
            </a:xfrm>
            <a:prstGeom prst="rect">
              <a:avLst/>
            </a:prstGeom>
            <a:ln w="0">
              <a:noFill/>
            </a:ln>
          </p:spPr>
        </p:pic>
        <p:sp>
          <p:nvSpPr>
            <p:cNvPr id="27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フローチャート: 処理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フローチャート: 処理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8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AEFF8-6CCA-483C-957E-8B65B9F40818}"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71720" y="1714320"/>
            <a:ext cx="7764480" cy="16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2010</a:t>
            </a:r>
            <a:r>
              <a:rPr b="0" lang="ja-JP" sz="4300" spc="-1" strike="noStrike">
                <a:solidFill>
                  <a:srgbClr val="572314"/>
                </a:solidFill>
                <a:latin typeface="Gill Sans MT"/>
              </a:rPr>
              <a:t>年度　</a:t>
            </a:r>
            <a:br>
              <a:rPr sz="4300"/>
            </a:br>
            <a:r>
              <a:rPr b="0" lang="en-US" sz="4300" spc="-1" strike="noStrike">
                <a:solidFill>
                  <a:srgbClr val="572314"/>
                </a:solidFill>
                <a:latin typeface="Gill Sans MT"/>
              </a:rPr>
              <a:t>GreenETChallenge</a:t>
            </a:r>
            <a:r>
              <a:rPr b="0" lang="ja-JP" sz="4300" spc="-1" strike="noStrike">
                <a:solidFill>
                  <a:srgbClr val="572314"/>
                </a:solidFill>
                <a:latin typeface="Gill Sans MT"/>
              </a:rPr>
              <a:t>案</a:t>
            </a:r>
            <a:endParaRPr b="0" lang="en-US" sz="4300" spc="-1" strike="noStrike">
              <a:solidFill>
                <a:srgbClr val="572314"/>
              </a:solidFill>
              <a:latin typeface="Gill Sans MT"/>
            </a:endParaRPr>
          </a:p>
        </p:txBody>
      </p:sp>
      <p:sp>
        <p:nvSpPr>
          <p:cNvPr id="323" name="PlaceHolder 2"/>
          <p:cNvSpPr>
            <a:spLocks noGrp="1"/>
          </p:cNvSpPr>
          <p:nvPr>
            <p:ph type="subTitle"/>
          </p:nvPr>
        </p:nvSpPr>
        <p:spPr>
          <a:xfrm>
            <a:off x="1428840" y="4285800"/>
            <a:ext cx="7407360" cy="175284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2010</a:t>
            </a:r>
            <a:r>
              <a:rPr b="0" lang="ja-JP" sz="2600" spc="-1" strike="noStrike">
                <a:solidFill>
                  <a:srgbClr val="320e04"/>
                </a:solidFill>
                <a:latin typeface="Gill Sans MT"/>
              </a:rPr>
              <a:t>年</a:t>
            </a:r>
            <a:r>
              <a:rPr b="0" lang="en-US" sz="2600" spc="-1" strike="noStrike">
                <a:solidFill>
                  <a:srgbClr val="320e04"/>
                </a:solidFill>
                <a:latin typeface="Gill Sans MT"/>
              </a:rPr>
              <a:t>3</a:t>
            </a:r>
            <a:r>
              <a:rPr b="0" lang="ja-JP" sz="2600" spc="-1" strike="noStrike">
                <a:solidFill>
                  <a:srgbClr val="320e04"/>
                </a:solidFill>
                <a:latin typeface="Gill Sans MT"/>
              </a:rPr>
              <a:t>月</a:t>
            </a:r>
            <a:r>
              <a:rPr b="0" lang="en-US" sz="2600" spc="-1" strike="noStrike">
                <a:solidFill>
                  <a:srgbClr val="320e04"/>
                </a:solidFill>
                <a:latin typeface="Gill Sans MT"/>
              </a:rPr>
              <a:t>30</a:t>
            </a:r>
            <a:r>
              <a:rPr b="0" lang="ja-JP" sz="2600" spc="-1" strike="noStrike">
                <a:solidFill>
                  <a:srgbClr val="320e04"/>
                </a:solidFill>
                <a:latin typeface="Gill Sans MT"/>
              </a:rPr>
              <a:t>日</a:t>
            </a:r>
            <a:endParaRPr b="0" lang="en-US" sz="26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QUEST</a:t>
            </a:r>
            <a:r>
              <a:rPr b="0" lang="ja-JP" sz="2600" spc="-1" strike="noStrike">
                <a:solidFill>
                  <a:srgbClr val="320e04"/>
                </a:solidFill>
                <a:latin typeface="Gill Sans MT"/>
              </a:rPr>
              <a:t>　山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修正履歴</a:t>
            </a:r>
            <a:endParaRPr b="0" lang="en-US" sz="4300" spc="-1" strike="noStrike">
              <a:solidFill>
                <a:srgbClr val="572314"/>
              </a:solidFill>
              <a:latin typeface="Gill Sans MT"/>
            </a:endParaRPr>
          </a:p>
        </p:txBody>
      </p:sp>
      <p:graphicFrame>
        <p:nvGraphicFramePr>
          <p:cNvPr id="325" name=""/>
          <p:cNvGraphicFramePr/>
          <p:nvPr/>
        </p:nvGraphicFramePr>
        <p:xfrm>
          <a:off x="1071720" y="1447920"/>
          <a:ext cx="7862760" cy="1112760"/>
        </p:xfrm>
        <a:graphic>
          <a:graphicData uri="http://schemas.openxmlformats.org/drawingml/2006/table">
            <a:tbl>
              <a:tblPr/>
              <a:tblGrid>
                <a:gridCol w="1123920"/>
                <a:gridCol w="1122120"/>
                <a:gridCol w="4562640"/>
                <a:gridCol w="105408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日付</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修正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備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HGｺﾞｼｯｸE"/>
                        </a:rPr>
                        <a:t>2010/3/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山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初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7" name=""/>
          <p:cNvSpPr txBox="1"/>
          <p:nvPr/>
        </p:nvSpPr>
        <p:spPr>
          <a:xfrm>
            <a:off x="856800" y="1447920"/>
            <a:ext cx="8286840" cy="512424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従来（２月仕様）</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ボタン押下でスタート、もう一回押下でストッ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スタートは</a:t>
            </a:r>
            <a:r>
              <a:rPr b="0" lang="en-US" sz="2200" spc="-1" strike="noStrike">
                <a:solidFill>
                  <a:srgbClr val="000000"/>
                </a:solidFill>
                <a:latin typeface="Gill Sans MT"/>
              </a:rPr>
              <a:t>OK</a:t>
            </a:r>
            <a:r>
              <a:rPr b="0" lang="ja-JP" sz="2200" spc="-1" strike="noStrike">
                <a:solidFill>
                  <a:srgbClr val="000000"/>
                </a:solidFill>
                <a:latin typeface="Gill Sans MT"/>
              </a:rPr>
              <a:t>だが、ストップを押す時にモータの振動で続けて２回押すことがありその結果、消費電力表示が消えることが多々あった。</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7segLED</a:t>
            </a:r>
            <a:r>
              <a:rPr b="0" lang="ja-JP" sz="2600" spc="-1" strike="noStrike">
                <a:solidFill>
                  <a:srgbClr val="000000"/>
                </a:solidFill>
                <a:latin typeface="Gill Sans MT"/>
              </a:rPr>
              <a:t>で消費電力を表示</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LED</a:t>
            </a:r>
            <a:r>
              <a:rPr b="0" lang="ja-JP" sz="2200" spc="-1" strike="noStrike">
                <a:solidFill>
                  <a:srgbClr val="000000"/>
                </a:solidFill>
                <a:latin typeface="Gill Sans MT"/>
              </a:rPr>
              <a:t>は結構電力を食う。表示が薄くて見えない。一度消えると記録が見れない。大会仕様としては致命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回生ブレーキ無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を電子制御で止めても慣性である程度走ってしまうので、機敏な制御がやりにく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PU</a:t>
            </a:r>
            <a:r>
              <a:rPr b="0" lang="ja-JP" sz="2600" spc="-1" strike="noStrike">
                <a:solidFill>
                  <a:srgbClr val="000000"/>
                </a:solidFill>
                <a:latin typeface="Gill Sans MT"/>
              </a:rPr>
              <a:t>電源をモータ電源からとっていた</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電源の電圧がだんだんと低下していくと、計測部が暴走することがあった</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Gill Sans MT"/>
              </a:rPr>
              <a:t>今回（３月仕様）</a:t>
            </a:r>
            <a:endParaRPr b="0" lang="en-US" sz="25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パソコンから無線（</a:t>
            </a:r>
            <a:r>
              <a:rPr b="0" lang="en-US" sz="2200" spc="-1" strike="noStrike">
                <a:solidFill>
                  <a:srgbClr val="000000"/>
                </a:solidFill>
                <a:latin typeface="Gill Sans MT"/>
              </a:rPr>
              <a:t>Xbee</a:t>
            </a:r>
            <a:r>
              <a:rPr b="0" lang="ja-JP" sz="2200" spc="-1" strike="noStrike">
                <a:solidFill>
                  <a:srgbClr val="000000"/>
                </a:solidFill>
                <a:latin typeface="Gill Sans MT"/>
              </a:rPr>
              <a:t>）でスタート、ストップを操作</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indows</a:t>
            </a:r>
            <a:r>
              <a:rPr b="0" lang="ja-JP" sz="1900" spc="-1" strike="noStrike">
                <a:solidFill>
                  <a:srgbClr val="000000"/>
                </a:solidFill>
                <a:latin typeface="Gill Sans MT"/>
              </a:rPr>
              <a:t>のプログラムで操作できるようになり快適</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消費電力は無線でシリアル転送</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制御部のデバッグ情報も転送できるようになりデバッグが楽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回生ブレーキを追加</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ET(</a:t>
            </a:r>
            <a:r>
              <a:rPr b="0" lang="ja-JP" sz="1900" spc="-1" strike="noStrike">
                <a:solidFill>
                  <a:srgbClr val="000000"/>
                </a:solidFill>
                <a:latin typeface="Gill Sans MT"/>
              </a:rPr>
              <a:t>電界効果トランジスタ</a:t>
            </a:r>
            <a:r>
              <a:rPr b="0" lang="en-US" sz="1900" spc="-1" strike="noStrike">
                <a:solidFill>
                  <a:srgbClr val="000000"/>
                </a:solidFill>
                <a:latin typeface="Gill Sans MT"/>
              </a:rPr>
              <a:t>)</a:t>
            </a:r>
            <a:r>
              <a:rPr b="0" lang="ja-JP" sz="1900" spc="-1" strike="noStrike">
                <a:solidFill>
                  <a:srgbClr val="000000"/>
                </a:solidFill>
                <a:latin typeface="Gill Sans MT"/>
              </a:rPr>
              <a:t>を２個追加することにより惰性時よりもブレーキがかかるよう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PU</a:t>
            </a:r>
            <a:r>
              <a:rPr b="0" lang="ja-JP" sz="2200" spc="-1" strike="noStrike">
                <a:solidFill>
                  <a:srgbClr val="000000"/>
                </a:solidFill>
                <a:latin typeface="Gill Sans MT"/>
              </a:rPr>
              <a:t>電源を別に用意</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モータ電源が減っても、計測部はきちんと動作</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仕様変更により、電池が増加したので筺体の見直しが必要になった</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現在は、動作確認優先のため不格好になっているが将来的には小さくしたい。</a:t>
            </a:r>
            <a:endParaRPr b="0" lang="en-US" sz="19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４月以降の計画案</a:t>
            </a:r>
            <a:endParaRPr b="0" lang="en-US" sz="4300" spc="-1" strike="noStrike">
              <a:solidFill>
                <a:srgbClr val="572314"/>
              </a:solidFill>
              <a:latin typeface="Gill Sans MT"/>
            </a:endParaRPr>
          </a:p>
        </p:txBody>
      </p:sp>
      <p:sp>
        <p:nvSpPr>
          <p:cNvPr id="331" name=""/>
          <p:cNvSpPr txBox="1"/>
          <p:nvPr/>
        </p:nvSpPr>
        <p:spPr>
          <a:xfrm>
            <a:off x="928800" y="1447560"/>
            <a:ext cx="800568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下記１）～３）を実施する</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１）運営会議（有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主にルール作りや運営のための会議</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２周間に一度くらいの開催</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提案は</a:t>
            </a:r>
            <a:r>
              <a:rPr b="0" lang="en-US" sz="2200" spc="-1" strike="noStrike">
                <a:solidFill>
                  <a:srgbClr val="000000"/>
                </a:solidFill>
                <a:latin typeface="Gill Sans MT"/>
              </a:rPr>
              <a:t>QUEST</a:t>
            </a:r>
            <a:r>
              <a:rPr b="0" lang="ja-JP" sz="2200" spc="-1" strike="noStrike">
                <a:solidFill>
                  <a:srgbClr val="000000"/>
                </a:solidFill>
                <a:latin typeface="Gill Sans MT"/>
              </a:rPr>
              <a:t>で作成しそれを審議（有志の負担減らす）</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技術説明会＋試走会（有志＋選手）</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QUEST</a:t>
            </a:r>
            <a:r>
              <a:rPr b="0" lang="ja-JP" sz="2200" spc="-1" strike="noStrike">
                <a:solidFill>
                  <a:srgbClr val="000000"/>
                </a:solidFill>
                <a:latin typeface="Gill Sans MT"/>
              </a:rPr>
              <a:t>で作成してきた基本モデルの説明会</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ハードから、ソフトまで、月１回の開催（５月から８月まで開催。計４回）</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試走会のコースを設置して、説明会の後自由走行（５月は無理ぽいので６月以降）</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３）９月末に</a:t>
            </a:r>
            <a:r>
              <a:rPr b="0" lang="en-US" sz="2600" spc="-1" strike="noStrike">
                <a:solidFill>
                  <a:srgbClr val="000000"/>
                </a:solidFill>
                <a:latin typeface="Gill Sans MT"/>
              </a:rPr>
              <a:t>GreenETChallenge</a:t>
            </a:r>
            <a:r>
              <a:rPr b="0" lang="ja-JP" sz="2600" spc="-1" strike="noStrike">
                <a:solidFill>
                  <a:srgbClr val="000000"/>
                </a:solidFill>
                <a:latin typeface="Gill Sans MT"/>
              </a:rPr>
              <a:t>実施</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小さいながらも大会形式で行いたい</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00:29:00Z</dcterms:created>
  <dc:creator>yamashita</dc:creator>
  <dc:description/>
  <dc:language>en-US</dc:language>
  <cp:lastModifiedBy>yamashita</cp:lastModifiedBy>
  <dcterms:modified xsi:type="dcterms:W3CDTF">2010-03-29T05:54:59Z</dcterms:modified>
  <cp:revision>226</cp:revision>
  <dc:subject/>
  <dc:title>ETロボコン2009 九州地区反省と来年度について</dc:title>
</cp:coreProperties>
</file>