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DB04-6519-45E7-B05F-013D4B51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ECF2-C26B-46A9-A0C7-5CEC142F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2025-957D-4B86-AD9E-9DAEC905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9091-A388-427C-B765-475AC0E8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B41E-5F7A-46D6-96FE-20127F9D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C9F5-2F91-4C33-8C00-A1D3449D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A9B9-5FC0-4829-8358-39AF8DC7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FAC2-7FBB-4AEA-9DF4-59BB300D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2B4B-EC3C-4B8C-B0AD-162A16E0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5668-41C8-4164-8A88-43019EC3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FA62-21E0-4B33-A7BC-FE5121E5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440C-B189-4F51-ADE2-63E9773F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0E0F-060C-47F1-949D-F7EE53DBF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ロボコン九州大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0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運営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州大会実行委員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84EA-77AA-4E33-8A15-AFBF073288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パクトな運営を目指す。負担が少な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場は、大学関係者の方々に依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運営は、今村さんからノウハウを教わる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事務局はＮＰＯ　ＱＵＥＳＴが主に担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費用は、ＮＰＯ　ＱＵＥＳＴに支払う。そこ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アルバイト代など支払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副運営委員長をつく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BB96-C53D-4D80-A1A9-D0C4923C81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スケジュ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時期：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九州地区大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＝＞　この日以外は困難（会場都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場所：　　九州産業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チーム数２２チーム　３月２９日現在）４月６日締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予定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試走会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センタ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試走会（九州産業大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24B4-3E30-43C8-9955-E19D9F8847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実行委員会組織（案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507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顧問：吉田市長　牛島先生、　松尾会長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委員長：福田先生（九大）　副：芦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技術委員長：有森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（＝＞技術説明会　中心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技術：甘田（ｺｱ）、赤山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TE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小田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委員長：岩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N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：中西（九大）、久住（九大）、北須賀（熊大）、片山（宮大）、梶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鳥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性能審査：松下（コア）、片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運営委員長：　　今村さん＝＞　本部との連絡：芦原　＝＞　澤田先生、木下さん、　副運営委員長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対外折衝：芦原　　　＝＞　　澤田先生、木下さん　、副運営委員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実行委員間調整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全体管理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運営：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三宅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、中嶋（東海大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富松（電盛社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木下（沖通信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椛島（安川情報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澤田（九産大）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藤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川津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務局長：山下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事務局　原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瓜生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ST)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アルバイト、犬塚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カタログ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ティーシャツ：会場手配：本戦のときは澤田先生　会場設営指示：台本作成：　流用　参加者やり取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ボランティア：・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0ADD-56D5-42F3-AF08-9E962E46CF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運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催時期の決定：９月４日、５日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明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判断（澤田先生連絡によ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委員長の選定（今村さんからの引継ぎ）、実行委員会構成の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事務局の強化、犬塚さ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イシンコムクルーズの　近藤さんを実行委員会へ＝＞様子見（ボランティア、当日きてくださ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旅費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万円振り込みあり、その使用方法について合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　連絡会議　出席者　　＝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まで芦原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各担当から、福田、芦原、山下、岩崎・中西、甘田、有森（講師をする人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　　　　（福田、岩崎、中西、山下、甘田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審査合宿の予約　　＝＞　事務局に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福岡市への後援依頼　＝＞　本部　羽根田さんが手続き　＝＞完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承諾書＝＞連絡会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東京に持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C41C-6296-42A6-A60D-DCA0C8AA70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技術教育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追加技術説明会（ＤＳＬ、コード評価）、追加試走会開催の計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モデル教育など　＝＞　　ＬＳＩカレッジ、ＱＵＥＳＴ教育の紹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前教育自前化（本部からでな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＝＞マニュアル通りの教育はできる。アドバイザで本部から呼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ロボコン用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購入（測定用）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万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ホームページ作成　＝＞九産大に依頼？　明日確認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参加者写真掲載、承諾書必要。　大学（九大）にお願い、服部さん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ビデオとり：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メーリングリスト（今村さん管理から変更）　＝＞　すこしそのま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会準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司会の準備　＝＞　昨年度の南さん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コース土台（大分県で製作予定あり、１０万円）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インターネット中継（九産大の下川先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財産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度）ＭＣＣにあるものの整理：　ＬＳＩセンターを倉庫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3AC8-F4F5-4875-9DAF-EFDACBEBCC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預金残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実行委員会（入金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8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に本部より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入金予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運用口座に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（運用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3,0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　＋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で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チャンピョンシップ大会への旅費補助に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792F-A952-4410-B2C9-32A2DC45CF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4:09:54Z</dcterms:created>
  <dc:creator>nal</dc:creator>
  <dc:description/>
  <dc:language>en-US</dc:language>
  <cp:lastModifiedBy>芦原秀一</cp:lastModifiedBy>
  <dcterms:modified xsi:type="dcterms:W3CDTF">2010-03-30T00:43:17Z</dcterms:modified>
  <cp:revision>5</cp:revision>
  <dc:subject/>
  <dc:title>ETロボコン九州大会2010 運営方針</dc:title>
</cp:coreProperties>
</file>