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1.wmf" ContentType="image/x-wmf"/>
  <Override PartName="/ppt/media/image10.wmf" ContentType="image/x-wmf"/>
  <Override PartName="/ppt/media/image2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5.png" ContentType="image/png"/>
  <Override PartName="/ppt/media/image3.jpeg" ContentType="image/jpeg"/>
  <Override PartName="/ppt/media/image13.jpeg" ContentType="image/jpeg"/>
  <Override PartName="/ppt/media/image6.jpeg" ContentType="image/jpeg"/>
  <Override PartName="/ppt/media/image7.wmf" ContentType="image/x-wmf"/>
  <Override PartName="/ppt/media/image4.png" ContentType="image/png"/>
  <Override PartName="/ppt/media/image12.wmf" ContentType="image/x-wmf"/>
  <Override PartName="/ppt/media/image8.wmf" ContentType="image/x-wmf"/>
  <Override PartName="/ppt/media/image9.wmf" ContentType="image/x-wmf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173EB-0663-4FEB-93E6-4C4265A90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49DBE-C2E5-4B78-A3D4-E0CC57F51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8B8B6-8876-4684-8308-4E2DA79B7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079F6-D943-4D72-82AE-1F8A67144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39D3A-BC29-4649-9E29-6AA808F76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F2545-9B90-42AE-9C8E-078B21952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96768-8FC1-4BF2-810D-1536D8F8B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F5750-B9EB-4212-B758-831D8BFAE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D2B23-D080-48E4-9F62-2862C9731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02381-6635-4103-A6FE-86CD61B27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84F7C-8B94-43D1-8753-D37CF3D72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A9B05-3EAF-4222-9F09-65BA4F164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C73BA-7EEB-4970-945B-37C15CD13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E84DF-FA32-4B68-A5AA-265BCB37C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46AAD-010F-4856-9632-F6CE0BEC5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4B3B1-8B9C-4951-BC99-D31489527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7A658-9645-4F7A-926C-C645A38A7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B293DB-2E25-42C6-BE39-755A1E56D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BB5F9F-3113-4794-9FBE-21BE5BF33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982545-2D45-4E5A-ACBC-4DBB6D3F5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5B9E74-E82F-4BED-9488-9B3BBA52B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BB4402-D9FF-4911-BE67-43F82BA04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876B9-2059-4714-8F4D-A52437EF4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6526F3-2192-4443-A60E-E8FD99E60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22DAB0-80CF-470A-AEC6-BE55D5ABD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A44DEF-0E54-46BD-9508-130019A14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B75E92-83C6-4CCC-B54F-C48568232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25364E-D31A-4736-B4B5-40ED482EB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3D105E-5D76-4F58-8DFB-9B1584B4E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006870-E786-4F1D-8FC3-0CE89CDED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3F1696-26F1-4325-BB90-376E0EC51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A76CD2-8AB7-4634-804E-E6BC0CBF3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5E73E4-D26D-47AC-86BF-733C4523C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EC7E2-B0BE-4C0A-A226-DC7872558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E2971D-E8AA-46E9-9841-D829BD4E2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AEFAE8-DD8B-4590-8A16-7215F8BCA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5A70CA-6704-44DA-9856-A6CDC99B6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3D47C9-D379-490F-B4AF-5C5C526CD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A06408-5D0B-4CA2-A797-A39BE0AA0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4D51F0-8FC6-41A5-9942-FA72CD83A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676443-631F-43D5-B398-D7402F34F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7BA187-BDBA-4F1C-B528-F079D4C07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F3399A-A966-4A30-A79F-E002272BD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373C02-05AA-437D-B8A0-B08A835F9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C7F51-0720-4CDB-A3A8-6ED53694F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95779A-615F-48D5-8A58-D21638B58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0E7129-FD31-4A8F-B66A-125120FA2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851BF7-99C6-44AF-8D01-A00AA5036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00E13E-A1F3-4CB4-A69E-16C935983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49C5E7-4F8F-45A0-AEA5-E1DB3D3A5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4AAEC3-B4A6-4AFC-8F7E-A5C9B646B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7CB686-AF18-4B00-AFAC-7CF265C3C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D89290-A586-4784-B12E-BFC1D3A23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CC19A0-BD0E-4F08-B658-C3ED0A651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DDB01B-9B05-49F7-9D4F-A595F38DF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69868-7FED-4D1F-B371-5D08983E4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10C8B0-8A6D-4024-8BFA-5C0D1B4D1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F09FD6-B745-48F3-AD05-F28590C73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8306AC-B0B8-4788-9C38-226E4F1E7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EF2705-DA21-4902-8892-57B85C3A0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71A1C1-8F8E-4FB1-8911-61B9F5190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79D308-683C-4CA0-8057-91DAEFC7D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54A549-6D89-4397-A744-98658A8D5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B8D9A4-CB51-4399-8783-227F4E48B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585C0E-E739-487E-8D0B-CA0CE931D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2A4786-1DEF-43FD-9913-A190552BE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B334A-D2E7-47EA-8DD1-87DBCAB75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573A80-A473-43E1-828A-8BE38E673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D47311-4A34-473C-B990-E643759E0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AF6F10-68F3-4619-99AE-5175DEE31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87B0EE-99A9-4739-B4CF-60D708A5D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AFC2FA-C0F4-4B27-B246-2AD148BC6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C9CF69-FA19-4B2A-9C55-737004041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FEAF2A-78E6-48F6-92A3-C547F8E27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C724DF-0635-4CB0-9D1B-A1B3A80D3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E409EC-EEF6-4CF8-A631-47FF5B4A5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909D8E-2716-434D-A1B4-41C1C900E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53C54-2666-47D5-BE58-552D9938F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7C4365-7F11-4D64-B037-E19470288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FA3701-3C43-4D92-9DBD-2DEA9B68B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3498B1-B98C-47FD-B4ED-E3ADBFA00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B31511-47C8-46A5-836F-2DA0B0356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E7B015-0DB5-4B7A-BAB7-BFCCB0A2A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ADFC3-B47D-4467-94F2-3BE37B70B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パイ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円/楕円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ドーナツ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ドーナツ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正方形/長方形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E5E6A-D99A-478F-82A2-B01207F2AEA8}" type="slidenum">
              <a: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正方形/長方形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" name="Picture 2" descr="C:\DATA\マイピクチャ\logo2.jpg"/>
          <p:cNvPicPr/>
          <p:nvPr/>
        </p:nvPicPr>
        <p:blipFill>
          <a:blip r:embed="rId4"/>
          <a:stretch/>
        </p:blipFill>
        <p:spPr>
          <a:xfrm>
            <a:off x="7738920" y="0"/>
            <a:ext cx="1405080" cy="428760"/>
          </a:xfrm>
          <a:prstGeom prst="rect">
            <a:avLst/>
          </a:prstGeom>
          <a:ln w="0">
            <a:noFill/>
          </a:ln>
        </p:spPr>
      </p:pic>
      <p:sp>
        <p:nvSpPr>
          <p:cNvPr id="13" name="正方形/長方形 13"/>
          <p:cNvSpPr/>
          <p:nvPr/>
        </p:nvSpPr>
        <p:spPr>
          <a:xfrm>
            <a:off x="857160" y="6488280"/>
            <a:ext cx="742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  <a:ea typeface="HGｺﾞｼｯｸE"/>
              </a:rPr>
              <a:t>Kyushu Embedded Software Technology Consortium(QUES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パイ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円/楕円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ドーナツ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3" name="ドーナツ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正方形/長方形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正方形/長方形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C:\DATA\マイピクチャ\logo2.jpg"/>
          <p:cNvPicPr/>
          <p:nvPr/>
        </p:nvPicPr>
        <p:blipFill>
          <a:blip r:embed="rId4"/>
          <a:stretch/>
        </p:blipFill>
        <p:spPr>
          <a:xfrm>
            <a:off x="7738920" y="0"/>
            <a:ext cx="1405080" cy="428760"/>
          </a:xfrm>
          <a:prstGeom prst="rect">
            <a:avLst/>
          </a:prstGeom>
          <a:ln w="0">
            <a:noFill/>
          </a:ln>
        </p:spPr>
      </p:pic>
      <p:sp>
        <p:nvSpPr>
          <p:cNvPr id="58" name="正方形/長方形 13"/>
          <p:cNvSpPr/>
          <p:nvPr/>
        </p:nvSpPr>
        <p:spPr>
          <a:xfrm>
            <a:off x="857160" y="6488280"/>
            <a:ext cx="742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  <a:ea typeface="HGｺﾞｼｯｸE"/>
              </a:rPr>
              <a:t>Kyushu Embedded Software Technology Consortium(QUES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円/楕円 15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60" name="円/楕円 15" descr=""/>
            <p:cNvPicPr/>
            <p:nvPr/>
          </p:nvPicPr>
          <p:blipFill>
            <a:blip r:embed="rId5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円/楕円 16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29ED4-F188-4029-9103-BCCCE489EAAA}" type="slidenum">
              <a: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正方形/長方形 15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正方形/長方形 16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円/楕円 17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7" name="円/楕円 17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円/楕円 18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ED25A-DD8E-4CD9-9A53-AE1346B50969}" type="slidenum">
              <a: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50159-6F32-41B3-B41D-ADBE58D44F8D}" type="slidenum">
              <a: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正方形/長方形 15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正方形/長方形 16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752FB-9F68-4B09-B47C-55AA898A141F}" type="slidenum">
              <a: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1B6B0-AE3B-4E30-A86F-738A357C99C9}" type="slidenum">
              <a: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6" name="正方形/長方形 15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7" name="正方形/長方形 15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9" name="フローチャート: 処理 16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フローチャート: 処理 17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020FA-5D15-4AD0-AE75-26C8E51690EC}" type="slidenum">
              <a: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12.wmf"/><Relationship Id="rId14" Type="http://schemas.openxmlformats.org/officeDocument/2006/relationships/image" Target="../media/image13.jpeg"/><Relationship Id="rId15" Type="http://schemas.openxmlformats.org/officeDocument/2006/relationships/image" Target="../media/image14.jpeg"/><Relationship Id="rId16" Type="http://schemas.openxmlformats.org/officeDocument/2006/relationships/image" Target="../media/image15.jpeg"/><Relationship Id="rId17" Type="http://schemas.openxmlformats.org/officeDocument/2006/relationships/image" Target="../media/image16.jpeg"/><Relationship Id="rId1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071720" y="2499840"/>
            <a:ext cx="776448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QUEST</a:t>
            </a:r>
            <a:r>
              <a:rPr b="0" lang="ja-JP" sz="3900" spc="-1" strike="noStrike">
                <a:solidFill>
                  <a:srgbClr val="572314"/>
                </a:solidFill>
                <a:latin typeface="Gill Sans MT"/>
              </a:rPr>
              <a:t>理事連絡会</a:t>
            </a:r>
            <a:br>
              <a:rPr sz="3900"/>
            </a:br>
            <a:r>
              <a:rPr b="0" lang="ja-JP" sz="3900" spc="-1" strike="noStrike">
                <a:solidFill>
                  <a:srgbClr val="572314"/>
                </a:solidFill>
                <a:latin typeface="Gill Sans MT"/>
              </a:rPr>
              <a:t>セミナー状況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1428840" y="4285800"/>
            <a:ext cx="7407360" cy="17528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20e04"/>
                </a:solidFill>
                <a:latin typeface="Gill Sans MT"/>
              </a:rPr>
              <a:t>2010</a:t>
            </a:r>
            <a:r>
              <a:rPr b="0" lang="ja-JP" sz="2600" spc="-1" strike="noStrike">
                <a:solidFill>
                  <a:srgbClr val="320e04"/>
                </a:solidFill>
                <a:latin typeface="Gill Sans MT"/>
              </a:rPr>
              <a:t>年</a:t>
            </a:r>
            <a:r>
              <a:rPr b="0" lang="en-US" sz="2600" spc="-1" strike="noStrike">
                <a:solidFill>
                  <a:srgbClr val="320e04"/>
                </a:solidFill>
                <a:latin typeface="Gill Sans MT"/>
              </a:rPr>
              <a:t>3</a:t>
            </a:r>
            <a:r>
              <a:rPr b="0" lang="ja-JP" sz="2600" spc="-1" strike="noStrike">
                <a:solidFill>
                  <a:srgbClr val="320e04"/>
                </a:solidFill>
                <a:latin typeface="Gill Sans MT"/>
              </a:rPr>
              <a:t>月</a:t>
            </a:r>
            <a:r>
              <a:rPr b="0" lang="en-US" sz="2600" spc="-1" strike="noStrike">
                <a:solidFill>
                  <a:srgbClr val="320e04"/>
                </a:solidFill>
                <a:latin typeface="Gill Sans MT"/>
              </a:rPr>
              <a:t>30</a:t>
            </a:r>
            <a:r>
              <a:rPr b="0" lang="ja-JP" sz="2600" spc="-1" strike="noStrike">
                <a:solidFill>
                  <a:srgbClr val="320e04"/>
                </a:solidFill>
                <a:latin typeface="Gill Sans MT"/>
              </a:rPr>
              <a:t>日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20e04"/>
                </a:solidFill>
                <a:latin typeface="Gill Sans MT"/>
              </a:rPr>
              <a:t>QUEST</a:t>
            </a:r>
            <a:r>
              <a:rPr b="0" lang="ja-JP" sz="2600" spc="-1" strike="noStrike">
                <a:solidFill>
                  <a:srgbClr val="320e04"/>
                </a:solidFill>
                <a:latin typeface="Gill Sans MT"/>
              </a:rPr>
              <a:t>　山下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900" spc="-1" strike="noStrike">
                <a:solidFill>
                  <a:srgbClr val="572314"/>
                </a:solidFill>
                <a:latin typeface="Gill Sans MT"/>
              </a:rPr>
              <a:t>１．先進的組込み教育状況報告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1434960" y="1447560"/>
            <a:ext cx="7499520" cy="49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Gill Sans MT"/>
              </a:rPr>
              <a:t>ハイレベル先進新技術セミナ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定員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100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名　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月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17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日実施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RP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センタービル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326" name=""/>
          <p:cNvGraphicFramePr/>
          <p:nvPr/>
        </p:nvGraphicFramePr>
        <p:xfrm>
          <a:off x="1857240" y="2928960"/>
          <a:ext cx="6143760" cy="3222720"/>
        </p:xfrm>
        <a:graphic>
          <a:graphicData uri="http://schemas.openxmlformats.org/drawingml/2006/table">
            <a:tbl>
              <a:tblPr/>
              <a:tblGrid>
                <a:gridCol w="4392720"/>
                <a:gridCol w="1751040"/>
              </a:tblGrid>
              <a:tr h="4986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ＭＳ 明朝"/>
                          <a:ea typeface="HGｺﾞｼｯｸE"/>
                        </a:rPr>
                        <a:t>項目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ＭＳ 明朝"/>
                          <a:ea typeface="HGｺﾞｼｯｸE"/>
                        </a:rPr>
                        <a:t>値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2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Gill Sans MT"/>
                          <a:ea typeface="HGｺﾞｼｯｸE"/>
                        </a:rPr>
                        <a:t>申込数（関係者除く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33</a:t>
                      </a: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Gill Sans MT"/>
                          <a:ea typeface="HGｺﾞｼｯｸE"/>
                        </a:rPr>
                        <a:t>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68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Gill Sans MT"/>
                          <a:ea typeface="HGｺﾞｼｯｸE"/>
                        </a:rPr>
                        <a:t>参加人数（関係者除く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00</a:t>
                      </a: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Gill Sans MT"/>
                          <a:ea typeface="HGｺﾞｼｯｸE"/>
                        </a:rPr>
                        <a:t>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6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Gill Sans MT"/>
                          <a:ea typeface="HGｺﾞｼｯｸE"/>
                        </a:rPr>
                        <a:t>アンケート回収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70</a:t>
                      </a: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Gill Sans MT"/>
                          <a:ea typeface="HGｺﾞｼｯｸE"/>
                        </a:rPr>
                        <a:t>枚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6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Gill Sans MT"/>
                          <a:ea typeface="HGｺﾞｼｯｸE"/>
                        </a:rPr>
                        <a:t>参加率（参加人数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/</a:t>
                      </a: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Gill Sans MT"/>
                          <a:ea typeface="HGｺﾞｼｯｸE"/>
                        </a:rPr>
                        <a:t>申込数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75.2</a:t>
                      </a: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Gill Sans MT"/>
                          <a:ea typeface="HGｺﾞｼｯｸE"/>
                        </a:rPr>
                        <a:t>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Gill Sans MT"/>
                          <a:ea typeface="HGｺﾞｼｯｸE"/>
                        </a:rPr>
                        <a:t>アンケート回収率（アンケート回収数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/</a:t>
                      </a: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Gill Sans MT"/>
                          <a:ea typeface="HGｺﾞｼｯｸE"/>
                        </a:rPr>
                        <a:t>参加人数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70.0</a:t>
                      </a: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Gill Sans MT"/>
                          <a:ea typeface="HGｺﾞｼｯｸE"/>
                        </a:rPr>
                        <a:t>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Picture 18" descr="resize0091"/>
          <p:cNvPicPr/>
          <p:nvPr/>
        </p:nvPicPr>
        <p:blipFill>
          <a:blip r:embed="rId1"/>
          <a:stretch/>
        </p:blipFill>
        <p:spPr>
          <a:xfrm>
            <a:off x="1571760" y="5072040"/>
            <a:ext cx="2143080" cy="1474920"/>
          </a:xfrm>
          <a:prstGeom prst="rect">
            <a:avLst/>
          </a:prstGeom>
          <a:ln w="0">
            <a:noFill/>
          </a:ln>
        </p:spPr>
      </p:pic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900" spc="-1" strike="noStrike">
                <a:solidFill>
                  <a:srgbClr val="572314"/>
                </a:solidFill>
                <a:latin typeface="Gill Sans MT"/>
              </a:rPr>
              <a:t>２．ハイレベルセミナー</a:t>
            </a:r>
            <a:br>
              <a:rPr sz="3900"/>
            </a:br>
            <a:r>
              <a:rPr b="0" lang="ja-JP" sz="3900" spc="-1" strike="noStrike">
                <a:solidFill>
                  <a:srgbClr val="572314"/>
                </a:solidFill>
                <a:latin typeface="Gill Sans MT"/>
              </a:rPr>
              <a:t>　　アンケート結果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9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1" name="Object 6"/>
          <p:cNvGraphicFramePr/>
          <p:nvPr/>
        </p:nvGraphicFramePr>
        <p:xfrm>
          <a:off x="3857760" y="1628640"/>
          <a:ext cx="2396880" cy="1800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32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57760" y="1628640"/>
                    <a:ext cx="2396880" cy="18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3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4" name="Object 8"/>
          <p:cNvGraphicFramePr/>
          <p:nvPr/>
        </p:nvGraphicFramePr>
        <p:xfrm>
          <a:off x="6286680" y="1571760"/>
          <a:ext cx="2377800" cy="18000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35" name="Object 8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286680" y="1571760"/>
                    <a:ext cx="2377800" cy="180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6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7" name="Object 10"/>
          <p:cNvGraphicFramePr/>
          <p:nvPr/>
        </p:nvGraphicFramePr>
        <p:xfrm>
          <a:off x="1428840" y="3257640"/>
          <a:ext cx="2274840" cy="18000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38" name="Object 10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428840" y="3257640"/>
                    <a:ext cx="2274840" cy="180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9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0" name="Object 12"/>
          <p:cNvGraphicFramePr/>
          <p:nvPr/>
        </p:nvGraphicFramePr>
        <p:xfrm>
          <a:off x="3857760" y="3271680"/>
          <a:ext cx="2255760" cy="18003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341" name="Object 12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857760" y="3271680"/>
                    <a:ext cx="2255760" cy="18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2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3" name="Object 14"/>
          <p:cNvGraphicFramePr/>
          <p:nvPr/>
        </p:nvGraphicFramePr>
        <p:xfrm>
          <a:off x="6357960" y="3271680"/>
          <a:ext cx="2255760" cy="17989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344" name="Object 14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6357960" y="3271680"/>
                    <a:ext cx="2255760" cy="17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5" name="Object 17"/>
          <p:cNvGraphicFramePr/>
          <p:nvPr/>
        </p:nvGraphicFramePr>
        <p:xfrm>
          <a:off x="1428840" y="1566720"/>
          <a:ext cx="2369880" cy="179100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346" name="Object 17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428840" y="1566720"/>
                    <a:ext cx="2369880" cy="179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47" name="Picture 19" descr="resize0092"/>
          <p:cNvPicPr/>
          <p:nvPr/>
        </p:nvPicPr>
        <p:blipFill>
          <a:blip r:embed="rId14"/>
          <a:stretch/>
        </p:blipFill>
        <p:spPr>
          <a:xfrm>
            <a:off x="3929040" y="5072040"/>
            <a:ext cx="2000160" cy="149868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20" descr="resize0088"/>
          <p:cNvPicPr/>
          <p:nvPr/>
        </p:nvPicPr>
        <p:blipFill>
          <a:blip r:embed="rId15"/>
          <a:stretch/>
        </p:blipFill>
        <p:spPr>
          <a:xfrm>
            <a:off x="7286760" y="5072040"/>
            <a:ext cx="1000080" cy="146700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21" descr="resize0082"/>
          <p:cNvPicPr/>
          <p:nvPr/>
        </p:nvPicPr>
        <p:blipFill>
          <a:blip r:embed="rId16"/>
          <a:stretch/>
        </p:blipFill>
        <p:spPr>
          <a:xfrm>
            <a:off x="6000840" y="5072040"/>
            <a:ext cx="1214280" cy="73188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22" descr="resize0080"/>
          <p:cNvPicPr/>
          <p:nvPr/>
        </p:nvPicPr>
        <p:blipFill>
          <a:blip r:embed="rId17"/>
          <a:stretch/>
        </p:blipFill>
        <p:spPr>
          <a:xfrm>
            <a:off x="6000840" y="5786280"/>
            <a:ext cx="1052280" cy="7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5T00:29:00Z</dcterms:created>
  <dc:creator>yamashita</dc:creator>
  <dc:description/>
  <dc:language>en-US</dc:language>
  <cp:lastModifiedBy>yamashita</cp:lastModifiedBy>
  <dcterms:modified xsi:type="dcterms:W3CDTF">2010-03-25T03:02:12Z</dcterms:modified>
  <cp:revision>145</cp:revision>
  <dc:subject/>
  <dc:title>ETロボコン2009 九州地区反省と来年度について</dc:title>
</cp:coreProperties>
</file>