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8.wmf" ContentType="image/x-wmf"/>
  <Override PartName="/ppt/media/image13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2.png" ContentType="image/pn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7088400" cy="102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71880" cy="509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5"/>
          </p:nvPr>
        </p:nvSpPr>
        <p:spPr>
          <a:xfrm>
            <a:off x="4012920" y="0"/>
            <a:ext cx="3071880" cy="509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Img"/>
          </p:nvPr>
        </p:nvSpPr>
        <p:spPr>
          <a:xfrm>
            <a:off x="990720" y="764640"/>
            <a:ext cx="5106960" cy="3830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Click to move the slide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6"/>
          </p:nvPr>
        </p:nvSpPr>
        <p:spPr>
          <a:xfrm>
            <a:off x="-36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 type="sldNum" idx="7"/>
          </p:nvPr>
        </p:nvSpPr>
        <p:spPr>
          <a:xfrm>
            <a:off x="401292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D287EF1-2FE4-452D-AD60-C885354426A9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73E27E1-7D3F-48D5-8709-F29EC08F1C74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7E82DB9-8BEA-428A-9CEA-37F0A70B60C6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0DEF019-40F7-458F-B4A3-2DA094B8201D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F28BC3D-E224-4FC4-8E34-345011A657D6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A918F61-0B10-4C50-A6D4-458F48E5A52A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AED0D0A-FE7E-4A71-8483-E9C83A0AAF16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3C6D6A8-2EAF-4B4E-A771-140173C5CD87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2609BA8-FC41-43F7-B932-15FE693B5A2F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4D81AA4-311F-4413-A6A9-01B16101661F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9D4E1E6-E341-4CBE-8482-B55CF3401FE3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7161EFD-F793-485C-9727-B94E10FF7D99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4757579-2E8D-484A-9A7A-4B0AE1B05094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0025427-1378-404F-8DF4-ADAA56926286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2A4DC1C-E180-4370-8D5E-E344F9DE38E7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A43E419-4D41-49F8-94E6-CF99A4147B4F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EBFA3-DD89-45FE-BA72-6E0DD5E2D7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8F8C6-1D86-450F-BEED-0D47281680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87A8F-9261-4A8B-9685-5EEBA95D05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98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384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062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98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384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37A59-32D8-4470-A22A-96A55185D7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476C4-613A-4626-B761-2F47ED999C5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5D502-4B0F-4E66-B74E-5FBF0F1C8CF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05F61-B897-4EE6-B22D-0ADC8EE3316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814F9-B304-4F52-A217-2661767394A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809CC-21EF-4484-9082-EFCCA1D9A14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05920" y="185760"/>
            <a:ext cx="768348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B1E00-F368-44A4-8C79-16AFA9B3F6E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CB3C1-4DB8-4581-B703-960D1131E8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703D1-29C8-41B4-B7FE-19ED5A26E3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47E0E-28A9-4729-990E-D9419CC8B3B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A6778-9EC7-4F17-9BF4-BB9C2ED405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1193C-7168-4993-A1D8-0B4CAD7C1EC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78CBB-51E3-4A95-AF8F-B2167632F3D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798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5384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062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798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5384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6BABA-475E-4B9F-9C0D-600305D5D91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9707-11AC-4CD4-80D1-C0D32782B46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7B6F-8116-4E87-B98E-DA330A9906F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EBE0-054C-4513-BF54-116CE09A8F6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ED87-692B-4F26-9729-3ECFC6826D4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69DD-0BDA-4E4E-BAE8-3847C63969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BE456-4910-4310-B6BC-17BA7A3D338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05920" y="185760"/>
            <a:ext cx="768348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75B1-EE18-4D4E-8F5B-FC6D3BC090B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8BB8-25C6-46FB-81B1-7507890E368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28D3-4A49-4FFE-BE3C-1C28040841F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4F86-ABB1-402A-BB0F-A9951EFFC5D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EEBD-F149-4A80-BF9A-A34EC69C46B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7290-34B7-4CE7-B6BB-E130039A2A7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798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5384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062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798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15384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3F92-96DB-47CC-A848-7E5D9EC02A9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31FCEC-674D-4D4C-ADF3-2E539649736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FD22D8-3E83-4BAF-83D6-728A60DF6AE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A769D9-529B-4D49-BC91-4BABC6596C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B81AC-1853-44B7-B1BE-BD86857117E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5461F7-66ED-4F25-B403-0C69B8C5794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F1C916-B40A-441B-81A1-943CE7A1F5E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205920" y="185760"/>
            <a:ext cx="768348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529E1B-20BA-4819-A99B-112F2DC87AD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E566AE-706A-4B3B-8AE1-D38A6D6FC24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0DD10B-D428-4029-B617-EBA713B2CB2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7A84D4-D76F-4989-8B9B-9148B81F8E9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39BC04-9486-4DC6-BB93-C731E906DC4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BF7A6F-C5E2-4063-8C1C-867F18FF027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1798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15384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2062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1798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15384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B3E101-1189-4FCE-B18A-1E264869FB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16012-EBC8-4D22-8477-4703E5C8F0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5920" y="185760"/>
            <a:ext cx="768348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08A4B-7CA6-46E3-A271-AAF7183427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D97E9-3148-43B0-BE61-B52CD3938A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DA187-BB2B-4A62-8DFD-04DEAAF59F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63210-136F-40E4-8864-0C6A6216BB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" name="テキスト ボックス 12"/>
          <p:cNvSpPr/>
          <p:nvPr/>
        </p:nvSpPr>
        <p:spPr>
          <a:xfrm>
            <a:off x="573840" y="6562800"/>
            <a:ext cx="249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ロボコン</a:t>
            </a: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2012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実施説明会資料／</a:t>
            </a: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ロボコン実行委員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9f2936"/>
          </a:solidFill>
          <a:ln w="9360">
            <a:solidFill>
              <a:srgbClr val="baa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121240" y="6535440"/>
            <a:ext cx="9270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600" spc="-1" strike="noStrike">
                <a:solidFill>
                  <a:srgbClr val="7f7f7f"/>
                </a:solidFill>
                <a:latin typeface="メイリオ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72007-E1D0-4E79-BF3E-E4D65DA48980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テキスト ボックス 6"/>
          <p:cNvSpPr/>
          <p:nvPr/>
        </p:nvSpPr>
        <p:spPr>
          <a:xfrm>
            <a:off x="573840" y="6562800"/>
            <a:ext cx="249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ロボコン</a:t>
            </a: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2012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実施説明会資料／</a:t>
            </a: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ロボコン実行委員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9f2936"/>
          </a:solidFill>
          <a:ln w="9360">
            <a:solidFill>
              <a:srgbClr val="baa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C:\Documents and Settings\hiroyuki.watanabe\My Documents\UMLロボコン\2010\ロゴ\100528ETRC2010新ロゴ1.0\ETRC2010-logo\ETrobot_logo-4C-S.jpg"/>
          <p:cNvPicPr/>
          <p:nvPr/>
        </p:nvPicPr>
        <p:blipFill>
          <a:blip r:embed="rId2"/>
          <a:stretch/>
        </p:blipFill>
        <p:spPr>
          <a:xfrm>
            <a:off x="3230640" y="4413240"/>
            <a:ext cx="2800440" cy="1924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8121240" y="6535440"/>
            <a:ext cx="9270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600" spc="-1" strike="noStrike">
                <a:solidFill>
                  <a:srgbClr val="7f7f7f"/>
                </a:solidFill>
                <a:latin typeface="メイリオ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8A500-4B28-4534-A799-E57D5AC7D539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12"/>
          <p:cNvSpPr/>
          <p:nvPr/>
        </p:nvSpPr>
        <p:spPr>
          <a:xfrm>
            <a:off x="573840" y="6562800"/>
            <a:ext cx="249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ロボコン</a:t>
            </a: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2012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実施説明会資料／</a:t>
            </a: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ロボコン実行委員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9f2936"/>
          </a:solidFill>
          <a:ln w="9360">
            <a:solidFill>
              <a:srgbClr val="baa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角丸四角形 6"/>
          <p:cNvSpPr/>
          <p:nvPr/>
        </p:nvSpPr>
        <p:spPr>
          <a:xfrm>
            <a:off x="206280" y="871560"/>
            <a:ext cx="7704360" cy="7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bd1b8"/>
              </a:gs>
              <a:gs pos="100000">
                <a:srgbClr val="f3f0e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C:\Documents and Settings\hiroyuki.watanabe\My Documents\UMLロボコン\2010\ロゴ\100528ETRC2010新ロゴ1.0\ETRC2010-logo\ETrobot_logo-4C-S.jpg"/>
          <p:cNvPicPr/>
          <p:nvPr/>
        </p:nvPicPr>
        <p:blipFill>
          <a:blip r:embed="rId2"/>
          <a:stretch/>
        </p:blipFill>
        <p:spPr>
          <a:xfrm>
            <a:off x="7967520" y="128520"/>
            <a:ext cx="1078200" cy="7430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3"/>
          </p:nvPr>
        </p:nvSpPr>
        <p:spPr>
          <a:xfrm>
            <a:off x="8121240" y="6535440"/>
            <a:ext cx="9270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600" spc="-1" strike="noStrike">
                <a:solidFill>
                  <a:srgbClr val="7f7f7f"/>
                </a:solidFill>
                <a:latin typeface="メイリオ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17506-D4D6-4793-AB62-781B48C97B08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テキスト ボックス 12"/>
          <p:cNvSpPr/>
          <p:nvPr/>
        </p:nvSpPr>
        <p:spPr>
          <a:xfrm>
            <a:off x="573840" y="6562800"/>
            <a:ext cx="249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ロボコン</a:t>
            </a: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2012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実施説明会資料／</a:t>
            </a: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ロボコン実行委員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9f2936"/>
          </a:solidFill>
          <a:ln w="9360">
            <a:solidFill>
              <a:srgbClr val="baa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C:\Documents and Settings\hiroyuki.watanabe\My Documents\UMLロボコン\2010\ロゴ\100528ETRC2010新ロゴ1.0\ETRC2010-logo\ETrobot_logo-4C-S.jpg"/>
          <p:cNvPicPr/>
          <p:nvPr/>
        </p:nvPicPr>
        <p:blipFill>
          <a:blip r:embed="rId2"/>
          <a:stretch/>
        </p:blipFill>
        <p:spPr>
          <a:xfrm>
            <a:off x="5973840" y="4413240"/>
            <a:ext cx="2800440" cy="19242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4"/>
          </p:nvPr>
        </p:nvSpPr>
        <p:spPr>
          <a:xfrm>
            <a:off x="8121240" y="6535440"/>
            <a:ext cx="9270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600" spc="-1" strike="noStrike">
                <a:solidFill>
                  <a:srgbClr val="7f7f7f"/>
                </a:solidFill>
                <a:latin typeface="メイリオ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8F5BA-0754-4999-81A6-8251FC20494F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5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1B285-E0C3-4A15-9122-250F5482C131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5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7D59-EB80-4FE0-BD4F-031D8F3C1032}" type="slidenum">
              <a:rPr b="0" lang="ja-JP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22040" y="1112400"/>
            <a:ext cx="7380360" cy="26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メイリオ"/>
              </a:rPr>
              <a:t>ET</a:t>
            </a:r>
            <a:r>
              <a:rPr b="0" lang="ja-JP" sz="2800" spc="-1" strike="noStrike">
                <a:solidFill>
                  <a:srgbClr val="323232"/>
                </a:solidFill>
                <a:latin typeface="メイリオ"/>
              </a:rPr>
              <a:t>ロボコン</a:t>
            </a:r>
            <a:r>
              <a:rPr b="0" lang="en-US" sz="2800" spc="-1" strike="noStrike">
                <a:solidFill>
                  <a:srgbClr val="323232"/>
                </a:solidFill>
                <a:latin typeface="メイリオ"/>
              </a:rPr>
              <a:t>2012</a:t>
            </a:r>
            <a:br>
              <a:rPr sz="4000"/>
            </a:br>
            <a:r>
              <a:rPr b="1" lang="en-US" sz="4000" spc="-1" strike="noStrike">
                <a:solidFill>
                  <a:srgbClr val="323232"/>
                </a:solidFill>
                <a:latin typeface="メイリオ"/>
              </a:rPr>
              <a:t>2012</a:t>
            </a:r>
            <a:r>
              <a:rPr b="1" lang="ja-JP" sz="4000" spc="-1" strike="noStrike">
                <a:solidFill>
                  <a:srgbClr val="323232"/>
                </a:solidFill>
                <a:latin typeface="メイリオ"/>
              </a:rPr>
              <a:t>年モデル審査</a:t>
            </a:r>
            <a:br>
              <a:rPr sz="4000"/>
            </a:br>
            <a:r>
              <a:rPr b="1" lang="ja-JP" sz="4000" spc="-1" strike="noStrike">
                <a:solidFill>
                  <a:srgbClr val="323232"/>
                </a:solidFill>
                <a:latin typeface="メイリオ"/>
              </a:rPr>
              <a:t>のポイント</a:t>
            </a:r>
            <a:br>
              <a:rPr sz="4000"/>
            </a:br>
            <a:endParaRPr b="0" lang="en-US" sz="4000" spc="-1" strike="noStrike">
              <a:solidFill>
                <a:srgbClr val="323232"/>
              </a:solidFill>
              <a:latin typeface="メイリオ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5" descr=""/>
          <p:cNvPicPr/>
          <p:nvPr/>
        </p:nvPicPr>
        <p:blipFill>
          <a:blip r:embed="rId1"/>
          <a:stretch/>
        </p:blipFill>
        <p:spPr>
          <a:xfrm>
            <a:off x="2077920" y="2728800"/>
            <a:ext cx="5078520" cy="376740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2011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年大会のエクセレントモデル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34" name="スライド番号プレースホルダ 3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3BDEB-0407-4A2B-92C1-74E5077D00B0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2"/>
          <a:stretch/>
        </p:blipFill>
        <p:spPr>
          <a:xfrm>
            <a:off x="2038320" y="996840"/>
            <a:ext cx="5181480" cy="38689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" descr=""/>
          <p:cNvPicPr/>
          <p:nvPr/>
        </p:nvPicPr>
        <p:blipFill>
          <a:blip r:embed="rId3"/>
          <a:stretch/>
        </p:blipFill>
        <p:spPr>
          <a:xfrm>
            <a:off x="204840" y="2192400"/>
            <a:ext cx="4224240" cy="31575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"/>
          <p:cNvPicPr/>
          <p:nvPr/>
        </p:nvPicPr>
        <p:blipFill>
          <a:blip r:embed="rId4"/>
          <a:stretch/>
        </p:blipFill>
        <p:spPr>
          <a:xfrm>
            <a:off x="4681440" y="2187720"/>
            <a:ext cx="4227480" cy="314784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8"/>
          <p:cNvSpPr/>
          <p:nvPr/>
        </p:nvSpPr>
        <p:spPr>
          <a:xfrm>
            <a:off x="394920" y="2443320"/>
            <a:ext cx="610200" cy="518400"/>
          </a:xfrm>
          <a:prstGeom prst="rect">
            <a:avLst/>
          </a:prstGeom>
          <a:solidFill>
            <a:srgbClr val="89c3e5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構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9"/>
          <p:cNvSpPr/>
          <p:nvPr/>
        </p:nvSpPr>
        <p:spPr>
          <a:xfrm>
            <a:off x="4281840" y="1298520"/>
            <a:ext cx="610200" cy="518400"/>
          </a:xfrm>
          <a:prstGeom prst="rect">
            <a:avLst/>
          </a:prstGeom>
          <a:solidFill>
            <a:srgbClr val="89c3e5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9"/>
          <p:cNvSpPr/>
          <p:nvPr/>
        </p:nvSpPr>
        <p:spPr>
          <a:xfrm>
            <a:off x="7728840" y="2401920"/>
            <a:ext cx="823680" cy="518400"/>
          </a:xfrm>
          <a:prstGeom prst="rect">
            <a:avLst/>
          </a:prstGeom>
          <a:solidFill>
            <a:srgbClr val="89c3e5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振舞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9"/>
          <p:cNvSpPr/>
          <p:nvPr/>
        </p:nvSpPr>
        <p:spPr>
          <a:xfrm>
            <a:off x="3754440" y="5857920"/>
            <a:ext cx="1690560" cy="518400"/>
          </a:xfrm>
          <a:prstGeom prst="rect">
            <a:avLst/>
          </a:prstGeom>
          <a:solidFill>
            <a:srgbClr val="89c3e5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要素技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10840" y="2923920"/>
            <a:ext cx="729612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323232"/>
                </a:solidFill>
                <a:latin typeface="メイリオ"/>
              </a:rPr>
              <a:t>今年のポイント</a:t>
            </a:r>
            <a:endParaRPr b="0" lang="en-US" sz="40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11200" y="1423800"/>
            <a:ext cx="708336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2000" spc="-1" strike="noStrike">
              <a:solidFill>
                <a:srgbClr val="7f7f7f"/>
              </a:solidFill>
              <a:latin typeface="メイリオ"/>
            </a:endParaRPr>
          </a:p>
        </p:txBody>
      </p:sp>
      <p:sp>
        <p:nvSpPr>
          <p:cNvPr id="244" name="Rectangle 15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455D0-0C97-4E8C-843C-6D172E91E587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2011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年大会の振り返り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アンケート結果から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審査結果の公開や、審査結果に関するより多くのフィードバックを希望する声が多い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他チームとの相対的な位置 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より多くのコメント 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モデル審査の内容や基準に対する意見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性能モデルが実験レポートに傾倒し過ぎ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技術教育に対する要望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もっと初心者向けの内容を増やして欲しい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審査工数の激増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参加チーム、モデル密度がそれぞれ増す中、モデル審査にかかる時間も年々増大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この方法で、より詳細なフィードバックや審査内容の追加は不可能！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47" name="Rectangle 15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4E286-7DF6-4800-9CA4-9124058228C1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2012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年大会でのチャレンジ（その</a:t>
            </a: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1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）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全員参加の「いいね！」型モデル審査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今の審査結果は参加チームへの一方的な通知表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審査する側、される側という意識が、みんなで大会を作っていくというロボコンのあり方を希薄化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いまのフィードバックだけでは、審査委員個々の思いやコメントが伝えきれない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「審査委員会」だけでなく、参加チームも審査に参加することで公平感・納得感を高めたい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参加チームからの投票を受け付ける 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最終評価は、審査委員会の評価と参加チームの投票結果により決定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審査委員それぞれの評価や、一押しモデルも積極的に公開することで審査委員の「顔が見える」審査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まずは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CS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のみでの採用を検討 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50" name="スライド番号プレースホルダ 3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C012A-46BD-4752-B30E-710C4A0C79F4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2012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年大会でのチャレンジ（その</a:t>
            </a: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2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）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モデリング初心者にフォーカスした教育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これまでの教育資料は、初心者～経験者までを広くカバーすることを目的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モデリング、実装、プロセスまで及び、すべての習得は困難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とくに、初心者に対するハードルが高い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モデリングによる「うれしさ」よりも「たいへんさ」が先行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今年は、スキルアップの前に、まずは「モデリング」の価値を実感してもらうように方向転換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モデルを「作る」ことは大切だが、まず最初は「使う」のが先！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すでに用意された「モデル」をつかって、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ET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ロボコンの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「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Hello world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（＝ライントレース）」を作ることにトライ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45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</a:rPr>
              <a:t>「モデルを使うとこんなに開発が楽なんだ！」</a:t>
            </a:r>
            <a:endParaRPr b="0" lang="en-US" sz="18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総合的な教材として、今までの教材の提供も併用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実際の進め方（ツールの活用、時間配分等）は今後検討予定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53" name="スライド番号プレースホルダ 3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B6601-98A7-448E-9CE0-6C5B28594A90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11200" y="2923920"/>
            <a:ext cx="708336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3232"/>
                </a:solidFill>
                <a:latin typeface="メイリオ"/>
              </a:rPr>
              <a:t>ET</a:t>
            </a:r>
            <a:r>
              <a:rPr b="1" lang="ja-JP" sz="4000" spc="-1" strike="noStrike">
                <a:solidFill>
                  <a:srgbClr val="323232"/>
                </a:solidFill>
                <a:latin typeface="メイリオ"/>
              </a:rPr>
              <a:t>ロボコン</a:t>
            </a:r>
            <a:r>
              <a:rPr b="1" lang="en-US" sz="4000" spc="-1" strike="noStrike">
                <a:solidFill>
                  <a:srgbClr val="323232"/>
                </a:solidFill>
                <a:latin typeface="メイリオ"/>
              </a:rPr>
              <a:t>2012</a:t>
            </a:r>
            <a:br>
              <a:rPr sz="4000"/>
            </a:br>
            <a:r>
              <a:rPr b="1" lang="ja-JP" sz="4000" spc="-1" strike="noStrike">
                <a:solidFill>
                  <a:srgbClr val="323232"/>
                </a:solidFill>
                <a:latin typeface="メイリオ"/>
              </a:rPr>
              <a:t>今年もよろしくお願いします</a:t>
            </a:r>
            <a:endParaRPr b="0" lang="en-US" sz="40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11200" y="1423800"/>
            <a:ext cx="708336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2000" spc="-1" strike="noStrike">
              <a:solidFill>
                <a:srgbClr val="7f7f7f"/>
              </a:solidFill>
              <a:latin typeface="メイリオ"/>
            </a:endParaRPr>
          </a:p>
        </p:txBody>
      </p:sp>
      <p:sp>
        <p:nvSpPr>
          <p:cNvPr id="256" name="Rectangle 15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EFFA9-6398-42AC-AB93-86FCF6D168D5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目次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モデル審査について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今年のポイント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80" name="Rectangle 15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E568F-EB8D-4FC1-9313-7449062C0DFE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11200" y="2923920"/>
            <a:ext cx="708336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323232"/>
                </a:solidFill>
                <a:latin typeface="メイリオ"/>
              </a:rPr>
              <a:t>モデル審査について</a:t>
            </a:r>
            <a:endParaRPr b="0" lang="en-US" sz="40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11200" y="1423800"/>
            <a:ext cx="708336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2000" spc="-1" strike="noStrike">
              <a:solidFill>
                <a:srgbClr val="7f7f7f"/>
              </a:solidFill>
              <a:latin typeface="メイリオ"/>
            </a:endParaRPr>
          </a:p>
        </p:txBody>
      </p:sp>
      <p:sp>
        <p:nvSpPr>
          <p:cNvPr id="183" name="Rectangle 15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FB223-D002-4E6F-A192-ED67AB21953F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2011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年大会のモデル審査基準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85" name="スライド番号プレースホルダ 3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C1766-696D-46B4-87E7-392FE7AA81E5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グループ化 16"/>
          <p:cNvGrpSpPr/>
          <p:nvPr/>
        </p:nvGrpSpPr>
        <p:grpSpPr>
          <a:xfrm>
            <a:off x="204840" y="1608120"/>
            <a:ext cx="4189320" cy="1623960"/>
            <a:chOff x="204840" y="1608120"/>
            <a:chExt cx="4189320" cy="1623960"/>
          </a:xfrm>
        </p:grpSpPr>
        <p:pic>
          <p:nvPicPr>
            <p:cNvPr id="187" name="コンテンツ プレースホルダ 17" descr=""/>
            <p:cNvPicPr/>
            <p:nvPr/>
          </p:nvPicPr>
          <p:blipFill>
            <a:blip r:embed="rId1"/>
            <a:stretch/>
          </p:blipFill>
          <p:spPr>
            <a:xfrm>
              <a:off x="347400" y="1608120"/>
              <a:ext cx="3980880" cy="162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角丸四角形 7"/>
            <p:cNvSpPr/>
            <p:nvPr/>
          </p:nvSpPr>
          <p:spPr>
            <a:xfrm>
              <a:off x="204840" y="1636920"/>
              <a:ext cx="4189320" cy="15440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c19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グループ化 18"/>
          <p:cNvGrpSpPr/>
          <p:nvPr/>
        </p:nvGrpSpPr>
        <p:grpSpPr>
          <a:xfrm>
            <a:off x="193680" y="3429000"/>
            <a:ext cx="4159080" cy="1849320"/>
            <a:chOff x="193680" y="3429000"/>
            <a:chExt cx="4159080" cy="1849320"/>
          </a:xfrm>
        </p:grpSpPr>
        <p:pic>
          <p:nvPicPr>
            <p:cNvPr id="190" name="コンテンツ プレースホルダ 17" descr=""/>
            <p:cNvPicPr/>
            <p:nvPr/>
          </p:nvPicPr>
          <p:blipFill>
            <a:blip r:embed="rId2"/>
            <a:stretch/>
          </p:blipFill>
          <p:spPr>
            <a:xfrm>
              <a:off x="383760" y="3431880"/>
              <a:ext cx="3919680" cy="184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角丸四角形 8"/>
            <p:cNvSpPr/>
            <p:nvPr/>
          </p:nvSpPr>
          <p:spPr>
            <a:xfrm>
              <a:off x="193680" y="3429000"/>
              <a:ext cx="4159080" cy="18187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c19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メイリオ"/>
                </a:rPr>
                <a:t>　　　　　　　　　　　　　　　　　　　　　　　　　　　　　　　　　　　　　　　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グループ化 17"/>
          <p:cNvGrpSpPr/>
          <p:nvPr/>
        </p:nvGrpSpPr>
        <p:grpSpPr>
          <a:xfrm>
            <a:off x="4535640" y="1596960"/>
            <a:ext cx="4376520" cy="4818240"/>
            <a:chOff x="4535640" y="1596960"/>
            <a:chExt cx="4376520" cy="4818240"/>
          </a:xfrm>
        </p:grpSpPr>
        <p:pic>
          <p:nvPicPr>
            <p:cNvPr id="193" name="コンテンツ プレースホルダ 17" descr=""/>
            <p:cNvPicPr/>
            <p:nvPr/>
          </p:nvPicPr>
          <p:blipFill>
            <a:blip r:embed="rId3"/>
            <a:stretch/>
          </p:blipFill>
          <p:spPr>
            <a:xfrm>
              <a:off x="4535640" y="1901880"/>
              <a:ext cx="4188240" cy="39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角丸四角形 9"/>
            <p:cNvSpPr/>
            <p:nvPr/>
          </p:nvSpPr>
          <p:spPr>
            <a:xfrm>
              <a:off x="4547520" y="1596960"/>
              <a:ext cx="4364640" cy="4818240"/>
            </a:xfrm>
            <a:custGeom>
              <a:avLst/>
              <a:gdLst>
                <a:gd name="textAreaLeft" fmla="*/ 212760 w 4364640"/>
                <a:gd name="textAreaRight" fmla="*/ 4151880 w 4364640"/>
                <a:gd name="textAreaTop" fmla="*/ 212760 h 4818240"/>
                <a:gd name="textAreaBottom" fmla="*/ 4605480 h 4818240"/>
              </a:gdLst>
              <a:ahLst/>
              <a:rect l="textAreaLeft" t="textAreaTop" r="textAreaRight" b="textAreaBottom"/>
              <a:pathLst>
                <a:path w="21600" h="23845">
                  <a:moveTo>
                    <a:pt x="3600" y="0"/>
                  </a:moveTo>
                  <a:arcTo wR="3600" hR="3600" stAng="16200000" swAng="-5400000"/>
                  <a:lnTo>
                    <a:pt x="0" y="20245"/>
                  </a:lnTo>
                  <a:arcTo wR="3600" hR="3600" stAng="10800000" swAng="-5400000"/>
                  <a:lnTo>
                    <a:pt x="18000" y="238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5560">
              <a:solidFill>
                <a:srgbClr val="c19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グループ化 19"/>
          <p:cNvGrpSpPr/>
          <p:nvPr/>
        </p:nvGrpSpPr>
        <p:grpSpPr>
          <a:xfrm>
            <a:off x="219240" y="4538520"/>
            <a:ext cx="4160520" cy="1847880"/>
            <a:chOff x="219240" y="4538520"/>
            <a:chExt cx="4160520" cy="1847880"/>
          </a:xfrm>
        </p:grpSpPr>
        <p:sp>
          <p:nvSpPr>
            <p:cNvPr id="196" name="角丸四角形 10"/>
            <p:cNvSpPr/>
            <p:nvPr/>
          </p:nvSpPr>
          <p:spPr>
            <a:xfrm>
              <a:off x="219240" y="5539320"/>
              <a:ext cx="4160520" cy="8002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c19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メイリオ"/>
                </a:rPr>
                <a:t>　　　　　　　　　　　　　　　　　　　　　　　　　　　　　　　　　　　　　　　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7" name="コンテンツ プレースホルダ 17" descr=""/>
            <p:cNvPicPr/>
            <p:nvPr/>
          </p:nvPicPr>
          <p:blipFill>
            <a:blip r:embed="rId4"/>
            <a:stretch/>
          </p:blipFill>
          <p:spPr>
            <a:xfrm>
              <a:off x="365760" y="4538520"/>
              <a:ext cx="3864600" cy="1847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8" name="テキスト ボックス 12"/>
          <p:cNvSpPr/>
          <p:nvPr/>
        </p:nvSpPr>
        <p:spPr>
          <a:xfrm>
            <a:off x="589320" y="3456000"/>
            <a:ext cx="1140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製品やソフトウェ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に求められるもの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何か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テキスト ボックス 13"/>
          <p:cNvSpPr/>
          <p:nvPr/>
        </p:nvSpPr>
        <p:spPr>
          <a:xfrm>
            <a:off x="5601240" y="1830240"/>
            <a:ext cx="2100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要求を実現するために必要な動作内容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それを実現するための仕組みが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正しく、複雑にならないよう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検討されているか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テキスト ボックス 14"/>
          <p:cNvSpPr/>
          <p:nvPr/>
        </p:nvSpPr>
        <p:spPr>
          <a:xfrm>
            <a:off x="6535080" y="4603680"/>
            <a:ext cx="1247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性能向上に必要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技術や戦略が十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に検討されているか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テキスト ボックス 15"/>
          <p:cNvSpPr/>
          <p:nvPr/>
        </p:nvSpPr>
        <p:spPr>
          <a:xfrm>
            <a:off x="7067880" y="5821200"/>
            <a:ext cx="53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各モデルの内容が、相互に確認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追跡可能で一貫性があるか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コンテンツ プレースホルダ 2"/>
          <p:cNvSpPr/>
          <p:nvPr/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大きく、以下の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4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つのカテゴリから構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テキスト ボックス 20"/>
          <p:cNvSpPr/>
          <p:nvPr/>
        </p:nvSpPr>
        <p:spPr>
          <a:xfrm>
            <a:off x="825840" y="2606760"/>
            <a:ext cx="927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正しく、わかりやす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書けているか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テキスト ボックス 21"/>
          <p:cNvSpPr/>
          <p:nvPr/>
        </p:nvSpPr>
        <p:spPr>
          <a:xfrm>
            <a:off x="2754720" y="5581800"/>
            <a:ext cx="156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新しい試みや日常の開発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出来ないことへのチャレン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があるか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モデル審査の方法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審査基準の各項目を以下の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4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つのレベルで評価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A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：素晴らしい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B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：良い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C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：不十分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D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：再検討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各項目の評価レベルを点数化し、さらに重みを加味して、最終評価点を算出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評価点に応じて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A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A-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B+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B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B-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C+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C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C-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D+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D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　までの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10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段階のレベルを付与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07" name="スライド番号プレースホルダ 3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3F8CA-E3ED-4915-924A-EC6DE05E417B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各チームへのフィードバック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設計面と性能面に分けて、「良かった点」「気になった点」をそれぞれコメントとして記述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10" name="スライド番号プレースホルダ 3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AFC34-8FCC-41D7-B024-3926430A073B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5" descr=""/>
          <p:cNvPicPr/>
          <p:nvPr/>
        </p:nvPicPr>
        <p:blipFill>
          <a:blip r:embed="rId1"/>
          <a:stretch/>
        </p:blipFill>
        <p:spPr>
          <a:xfrm>
            <a:off x="870120" y="2036880"/>
            <a:ext cx="7719840" cy="42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2011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年のモデル審査結果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13" name="スライド番号プレースホルダ 3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F6558-95CB-4D6D-84BE-7FAACFC54076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0" y="941400"/>
            <a:ext cx="5861160" cy="35244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"/>
          <p:cNvPicPr/>
          <p:nvPr/>
        </p:nvPicPr>
        <p:blipFill>
          <a:blip r:embed="rId2"/>
          <a:stretch/>
        </p:blipFill>
        <p:spPr>
          <a:xfrm>
            <a:off x="3611520" y="3370320"/>
            <a:ext cx="5427720" cy="311292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21"/>
          <p:cNvSpPr/>
          <p:nvPr/>
        </p:nvSpPr>
        <p:spPr>
          <a:xfrm>
            <a:off x="6051600" y="2395440"/>
            <a:ext cx="8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メイリオ"/>
              </a:rPr>
              <a:t>4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</a:rPr>
              <a:t>：素晴らし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メイリオ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</a:rPr>
              <a:t>：良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メイリオ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</a:rPr>
              <a:t>：不十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メイリオ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</a:rPr>
              <a:t>：再検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テキスト ボックス 7"/>
          <p:cNvSpPr/>
          <p:nvPr/>
        </p:nvSpPr>
        <p:spPr>
          <a:xfrm>
            <a:off x="5247720" y="1541520"/>
            <a:ext cx="174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メイリオ"/>
              </a:rPr>
              <a:t>・ほぼすべてに渡り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メイリオ"/>
              </a:rPr>
              <a:t>C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メイリオ"/>
              </a:rPr>
              <a:t>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メイリオ"/>
              </a:rPr>
              <a:t>0.5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メイリオ"/>
              </a:rPr>
              <a:t>程度高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メイリオ"/>
              </a:rPr>
              <a:t>・追加課題については、大きな差が発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テキスト ボックス 8"/>
          <p:cNvSpPr/>
          <p:nvPr/>
        </p:nvSpPr>
        <p:spPr>
          <a:xfrm>
            <a:off x="1819440" y="5106960"/>
            <a:ext cx="41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メイリオ"/>
              </a:rPr>
              <a:t>参加チームが多く、開催回数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メイリオ"/>
              </a:rPr>
              <a:t>多い地区ほど評価が高い傾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この</a:t>
            </a: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10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年間のモデル進化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20" name="スライド番号プレースホルダ 3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96D70-2C54-4AA1-9E86-1BDD3DB647FC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図 4" descr="modelcocept.jpg"/>
          <p:cNvPicPr/>
          <p:nvPr/>
        </p:nvPicPr>
        <p:blipFill>
          <a:blip r:embed="rId1"/>
          <a:stretch/>
        </p:blipFill>
        <p:spPr>
          <a:xfrm>
            <a:off x="168120" y="955800"/>
            <a:ext cx="8620200" cy="55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2004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年大会の優勝モデル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23" name="スライド番号プレースホルダ 3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4A904-2ED3-431C-BC9B-BAB2CB3ED360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2660760" y="1332000"/>
            <a:ext cx="3944880" cy="3132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"/>
          <p:cNvPicPr/>
          <p:nvPr/>
        </p:nvPicPr>
        <p:blipFill>
          <a:blip r:embed="rId2"/>
          <a:stretch/>
        </p:blipFill>
        <p:spPr>
          <a:xfrm>
            <a:off x="122400" y="3514680"/>
            <a:ext cx="4244760" cy="2805120"/>
          </a:xfrm>
          <a:prstGeom prst="rect">
            <a:avLst/>
          </a:prstGeom>
          <a:ln w="0">
            <a:noFill/>
          </a:ln>
        </p:spPr>
      </p:pic>
      <p:grpSp>
        <p:nvGrpSpPr>
          <p:cNvPr id="226" name="グループ化 6"/>
          <p:cNvGrpSpPr/>
          <p:nvPr/>
        </p:nvGrpSpPr>
        <p:grpSpPr>
          <a:xfrm>
            <a:off x="4494240" y="3603600"/>
            <a:ext cx="4425840" cy="2577960"/>
            <a:chOff x="4494240" y="3603600"/>
            <a:chExt cx="4425840" cy="2577960"/>
          </a:xfrm>
        </p:grpSpPr>
        <p:pic>
          <p:nvPicPr>
            <p:cNvPr id="227" name="Picture 4" descr=""/>
            <p:cNvPicPr/>
            <p:nvPr/>
          </p:nvPicPr>
          <p:blipFill>
            <a:blip r:embed="rId3"/>
            <a:stretch/>
          </p:blipFill>
          <p:spPr>
            <a:xfrm>
              <a:off x="4494240" y="3603600"/>
              <a:ext cx="2498400" cy="257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5" descr=""/>
            <p:cNvPicPr/>
            <p:nvPr/>
          </p:nvPicPr>
          <p:blipFill>
            <a:blip r:embed="rId4"/>
            <a:stretch/>
          </p:blipFill>
          <p:spPr>
            <a:xfrm>
              <a:off x="7156440" y="3891600"/>
              <a:ext cx="1763640" cy="218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9" name="Text Box 8"/>
          <p:cNvSpPr/>
          <p:nvPr/>
        </p:nvSpPr>
        <p:spPr>
          <a:xfrm>
            <a:off x="626760" y="3876840"/>
            <a:ext cx="610200" cy="518400"/>
          </a:xfrm>
          <a:prstGeom prst="rect">
            <a:avLst/>
          </a:prstGeom>
          <a:solidFill>
            <a:srgbClr val="fbcc9a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b26b02"/>
                </a:solidFill>
                <a:latin typeface="Arial"/>
              </a:rPr>
              <a:t>構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9"/>
          <p:cNvSpPr/>
          <p:nvPr/>
        </p:nvSpPr>
        <p:spPr>
          <a:xfrm>
            <a:off x="4281840" y="1693800"/>
            <a:ext cx="610200" cy="518400"/>
          </a:xfrm>
          <a:prstGeom prst="rect">
            <a:avLst/>
          </a:prstGeom>
          <a:solidFill>
            <a:srgbClr val="fbcc9a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b26b02"/>
                </a:solidFill>
                <a:latin typeface="Arial"/>
              </a:rPr>
              <a:t>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9"/>
          <p:cNvSpPr/>
          <p:nvPr/>
        </p:nvSpPr>
        <p:spPr>
          <a:xfrm>
            <a:off x="7906680" y="3479760"/>
            <a:ext cx="823680" cy="518400"/>
          </a:xfrm>
          <a:prstGeom prst="rect">
            <a:avLst/>
          </a:prstGeom>
          <a:solidFill>
            <a:srgbClr val="fbcc9a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b26b02"/>
                </a:solidFill>
                <a:latin typeface="Arial"/>
              </a:rPr>
              <a:t>振舞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07:17:52Z</dcterms:created>
  <dc:creator>watanabe</dc:creator>
  <dc:description/>
  <dc:language>en-US</dc:language>
  <cp:lastModifiedBy>Natsumi Horii</cp:lastModifiedBy>
  <dcterms:modified xsi:type="dcterms:W3CDTF">2012-02-17T09:49:45Z</dcterms:modified>
  <cp:revision>414</cp:revision>
  <dc:subject/>
  <dc:title>ETロボコン公式教材 （その１） モデルの描き方トレーニング</dc:title>
</cp:coreProperties>
</file>