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5"/>
          </p:nvPr>
        </p:nvSpPr>
        <p:spPr>
          <a:xfrm>
            <a:off x="401292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90720" y="764640"/>
            <a:ext cx="5106960" cy="383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6"/>
          </p:nvPr>
        </p:nvSpPr>
        <p:spPr>
          <a:xfrm>
            <a:off x="-36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7"/>
          </p:nvPr>
        </p:nvSpPr>
        <p:spPr>
          <a:xfrm>
            <a:off x="401292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28F4AB-C32E-4E09-9BB8-8025B6EE6DB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231F3F-B19B-46D2-B0A3-13855D5937A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EFF525-0483-4EF5-BF0B-B29D9CE6F5B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A39B23-488A-45FC-9529-E7AE1892DA68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562BD9-626C-40CB-8C03-07A27F652712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DFDE4F-B523-4294-80DB-858A48B0C013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DBF810-4667-4C2C-87A9-135BB77505EC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58D66A-DF6B-4FE7-B368-EC19751876B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3C2DDE-3F42-466F-AC74-3C391BDDD8B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EB5A3F-D2BE-4E1F-AA12-6B29346BBDC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DA392A-4D77-43DB-A287-3DA23AA8E99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CB40CA-B1A7-456F-832F-3B5EE0720817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40DD31-3B34-4D1F-8249-4907920D1527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73B5D3-FE9B-4811-93D1-9253338A0D28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E8E4F4-95B3-4836-BEB6-1BA9C672F45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1FE46D-CC2B-41B5-AA5F-4DE70A2F7877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9417-E6A7-4A47-BA9A-376577583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5C75-277C-468E-9BB6-E9E546BD5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8244-23E0-4C26-B938-C58A1BDC4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388E-0353-4FF1-A98A-146056F3A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2A1D3-14EC-4CC4-ADC5-3C32784C1E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E3DB-5628-49D2-99C9-086F7475A3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8E0A-33CB-4602-A24C-32DACC8DBF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B2608-8D0C-4CC4-8AA3-F21A20A52F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051F6-595E-4D49-8744-D7CB236120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B7F2D-694E-4468-95B9-4AE8DFB9BB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6DA0-619B-4683-8DA8-CCD0CB45C6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6E26-17B0-4F08-B8A9-8C4E94D11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FD55-C94F-4025-9C88-E9A768DAFA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AD6CA-CDB8-4326-A286-8EC83A353D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C840B-5B00-4CCB-B0FF-3BB71AFC7C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71EF-F8EA-4220-B500-D10B7E409D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E0F34-27E9-4987-B7E9-A6124BB062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8BB-83BD-4C3E-A609-2CDC2332B6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533-F0D9-4BE4-9FF1-ED47AB11EE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AAD-157F-46A2-BD86-D5901E246F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536-E879-43B3-BC75-DAF092B51C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72E-137B-487A-AC48-7FA47C91F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87FE-5E8B-4277-A9F6-126B8700D5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693-DFD7-4069-8EE5-CF786136A1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A99-8002-4304-A74F-5F86FAAE32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049-B142-4C47-9BE0-F5DC15B47C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5BF-0007-4513-B6FA-25B36EBB80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FF0-77ED-40AB-BD98-8CCC296A85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90F-A05B-446B-8BB5-612F17F5C2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964-261D-49DD-A385-F2191790D1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8D6E6-334C-45B6-BC29-8A737D90CE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B0247-DC5C-40FF-BBD2-72731501FB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785FB-0F1A-4164-8CFE-7C9543E4F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D8E6-CF01-4A1B-9712-3FE45EDD02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A9322-B25F-44FC-9985-F33269E557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39CD0-9651-4007-A464-9BDB1EEE76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81842-F879-40B2-B947-93484C9A84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5BF57-910D-4F3B-B060-1671B7A783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929CC-9C53-4E9B-8781-8B636C6514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BE879-3C45-40B8-9497-874077375F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CD833-4521-4A75-B7F8-DC0C9DBA73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25EF8-7A69-409E-9959-B47E2F4567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FCEF4-05EF-40C6-BAA1-07449F303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442D-861D-4A79-A518-F2595D733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3D14-5E42-4700-8CAA-C380F9895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926D-21B1-44C9-8718-6662F37FF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1E11-FD74-4FF8-AF2C-05803A868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28C5-6056-4BB5-B7D6-CE2A5A518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56EB-0458-4FAE-BB7E-894207B5966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21EE-C400-4C50-AF55-44EE304392E7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6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C030-447A-4865-AE87-D7F493C9B65A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59738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E639-774A-4D10-8941-15BF57C3C31A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239C-D059-4875-A6B4-382EA8A09CB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FDDB-2523-44CF-A86C-842AD16FA58B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2040" y="1112400"/>
            <a:ext cx="7380360" cy="26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年モデル審査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のポイント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077920" y="2728800"/>
            <a:ext cx="5078520" cy="3767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エクセレント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E362-3267-40EC-91B4-E3B52FCB0A6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2038320" y="996840"/>
            <a:ext cx="5181480" cy="386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04840" y="2192400"/>
            <a:ext cx="4224240" cy="315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4681440" y="2187720"/>
            <a:ext cx="4227480" cy="3147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394920" y="24433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281840" y="12985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728840" y="2401920"/>
            <a:ext cx="82368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754440" y="5857920"/>
            <a:ext cx="169056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要素技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10840" y="2923920"/>
            <a:ext cx="729612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のポイント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1D53-0F14-4F6B-9EA5-D9E973795A52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振り返り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アンケート結果から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審査結果の公開や、審査結果に関するより多くのフィードバックを希望する声が多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他チームとの相対的な位置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より多くのコメント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モデル審査の内容や基準に対する意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性能モデルが実験レポートに傾倒し過ぎ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技術教育に対する要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もっと初心者向けの内容を増やして欲し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工数の激増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参加チーム、モデル密度がそれぞれ増す中、モデル審査にかかる時間も年々増大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この方法で、より詳細なフィードバックや審査内容の追加は不可能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CE30-631C-418F-B57C-F03D65EF5C8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全員参加の「いいね！」型モデル審査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の審査結果は参加チームへの一方的な通知表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する側、される側という意識が、みんなで大会を作っていくというロボコンのあり方を希薄化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いまのフィードバックだけでは、審査委員個々の思いやコメントが伝えきれな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「審査委員会」だけでなく、参加チームも審査に参加することで公平感・納得感を高めた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参加チームからの投票を受け付ける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最終評価は、審査委員会の評価と参加チームの投票結果により決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委員それぞれの評価や、一押しモデルも積極的に公開することで審査委員の「顔が見える」審査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まず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のみでの採用を検討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99FA-CFC5-4E0C-B409-3DA682969AB2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リング初心者にフォーカスした教育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これまでの教育資料は、初心者～経験者までを広くカバーすることを目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、実装、プロセスまで及び、すべての習得は困難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とくに、初心者に対するハードルが高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による「うれしさ」よりも「たいへんさ」が先行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年は、スキルアップの前に、まずは「モデリング」の価値を実感してもらうように方向転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ルを「作る」ことは大切だが、まず最初は「使う」のが先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すでに用意された「モデル」をつかって、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ロボコン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Hello world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（＝ライントレース）」を作ることにトライ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</a:rPr>
              <a:t>「モデルを使うとこんなに開発が楽なんだ！」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総合的な教材として、今までの教材の提供も併用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実際の進め方（ツールの活用、時間配分等）は今後検討予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E1AF-1BC6-4314-BB00-4EECAD5DF0C4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もよろしくお願いします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FECC-B93B-4659-BFFB-D8BFC94C12B2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目次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ル審査について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今年のポイン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F8D8-5594-4F2C-B10C-BCB515BD283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モデル審査について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49BD-AB3E-4F3C-A2E3-361B50DDE8B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モデル審査基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FA73-5508-44E0-8D4D-793CA9699771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グループ化 16"/>
          <p:cNvGrpSpPr/>
          <p:nvPr/>
        </p:nvGrpSpPr>
        <p:grpSpPr>
          <a:xfrm>
            <a:off x="204840" y="1608120"/>
            <a:ext cx="4189320" cy="1623960"/>
            <a:chOff x="204840" y="1608120"/>
            <a:chExt cx="4189320" cy="1623960"/>
          </a:xfrm>
        </p:grpSpPr>
        <p:pic>
          <p:nvPicPr>
            <p:cNvPr id="187" name="コンテンツ プレースホルダ 17" descr=""/>
            <p:cNvPicPr/>
            <p:nvPr/>
          </p:nvPicPr>
          <p:blipFill>
            <a:blip r:embed="rId1"/>
            <a:stretch/>
          </p:blipFill>
          <p:spPr>
            <a:xfrm>
              <a:off x="347400" y="1608120"/>
              <a:ext cx="398088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角丸四角形 7"/>
            <p:cNvSpPr/>
            <p:nvPr/>
          </p:nvSpPr>
          <p:spPr>
            <a:xfrm>
              <a:off x="204840" y="1636920"/>
              <a:ext cx="4189320" cy="1544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グループ化 18"/>
          <p:cNvGrpSpPr/>
          <p:nvPr/>
        </p:nvGrpSpPr>
        <p:grpSpPr>
          <a:xfrm>
            <a:off x="193680" y="3429000"/>
            <a:ext cx="4159080" cy="1849320"/>
            <a:chOff x="193680" y="3429000"/>
            <a:chExt cx="4159080" cy="1849320"/>
          </a:xfrm>
        </p:grpSpPr>
        <p:pic>
          <p:nvPicPr>
            <p:cNvPr id="190" name="コンテンツ プレースホルダ 17" descr=""/>
            <p:cNvPicPr/>
            <p:nvPr/>
          </p:nvPicPr>
          <p:blipFill>
            <a:blip r:embed="rId2"/>
            <a:stretch/>
          </p:blipFill>
          <p:spPr>
            <a:xfrm>
              <a:off x="383760" y="3431880"/>
              <a:ext cx="391968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角丸四角形 8"/>
            <p:cNvSpPr/>
            <p:nvPr/>
          </p:nvSpPr>
          <p:spPr>
            <a:xfrm>
              <a:off x="193680" y="3429000"/>
              <a:ext cx="4159080" cy="181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グループ化 17"/>
          <p:cNvGrpSpPr/>
          <p:nvPr/>
        </p:nvGrpSpPr>
        <p:grpSpPr>
          <a:xfrm>
            <a:off x="4535640" y="1596960"/>
            <a:ext cx="4376520" cy="4818240"/>
            <a:chOff x="4535640" y="1596960"/>
            <a:chExt cx="4376520" cy="4818240"/>
          </a:xfrm>
        </p:grpSpPr>
        <p:pic>
          <p:nvPicPr>
            <p:cNvPr id="193" name="コンテンツ プレースホルダ 17" descr=""/>
            <p:cNvPicPr/>
            <p:nvPr/>
          </p:nvPicPr>
          <p:blipFill>
            <a:blip r:embed="rId3"/>
            <a:stretch/>
          </p:blipFill>
          <p:spPr>
            <a:xfrm>
              <a:off x="4535640" y="1901880"/>
              <a:ext cx="418824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角丸四角形 9"/>
            <p:cNvSpPr/>
            <p:nvPr/>
          </p:nvSpPr>
          <p:spPr>
            <a:xfrm>
              <a:off x="4547520" y="1596960"/>
              <a:ext cx="4364640" cy="4818240"/>
            </a:xfrm>
            <a:custGeom>
              <a:avLst/>
              <a:gdLst>
                <a:gd name="textAreaLeft" fmla="*/ 212760 w 4364640"/>
                <a:gd name="textAreaRight" fmla="*/ 4151880 w 4364640"/>
                <a:gd name="textAreaTop" fmla="*/ 212760 h 4818240"/>
                <a:gd name="textAreaBottom" fmla="*/ 4605480 h 4818240"/>
              </a:gdLst>
              <a:ahLst/>
              <a:rect l="textAreaLeft" t="textAreaTop" r="textAreaRight" b="textAreaBottom"/>
              <a:pathLst>
                <a:path w="21600" h="23845">
                  <a:moveTo>
                    <a:pt x="3600" y="0"/>
                  </a:moveTo>
                  <a:arcTo wR="3600" hR="3600" stAng="16200000" swAng="-5400000"/>
                  <a:lnTo>
                    <a:pt x="0" y="20245"/>
                  </a:lnTo>
                  <a:arcTo wR="3600" hR="3600" stAng="10800000" swAng="-5400000"/>
                  <a:lnTo>
                    <a:pt x="18000" y="238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グループ化 19"/>
          <p:cNvGrpSpPr/>
          <p:nvPr/>
        </p:nvGrpSpPr>
        <p:grpSpPr>
          <a:xfrm>
            <a:off x="219240" y="4538520"/>
            <a:ext cx="4160520" cy="1847880"/>
            <a:chOff x="219240" y="4538520"/>
            <a:chExt cx="4160520" cy="1847880"/>
          </a:xfrm>
        </p:grpSpPr>
        <p:sp>
          <p:nvSpPr>
            <p:cNvPr id="196" name="角丸四角形 10"/>
            <p:cNvSpPr/>
            <p:nvPr/>
          </p:nvSpPr>
          <p:spPr>
            <a:xfrm>
              <a:off x="219240" y="5539320"/>
              <a:ext cx="4160520" cy="800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コンテンツ プレースホルダ 17" descr=""/>
            <p:cNvPicPr/>
            <p:nvPr/>
          </p:nvPicPr>
          <p:blipFill>
            <a:blip r:embed="rId4"/>
            <a:stretch/>
          </p:blipFill>
          <p:spPr>
            <a:xfrm>
              <a:off x="365760" y="4538520"/>
              <a:ext cx="3864600" cy="18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テキスト ボックス 12"/>
          <p:cNvSpPr/>
          <p:nvPr/>
        </p:nvSpPr>
        <p:spPr>
          <a:xfrm>
            <a:off x="589320" y="345600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製品やソフトウェ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求められるもの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何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3"/>
          <p:cNvSpPr/>
          <p:nvPr/>
        </p:nvSpPr>
        <p:spPr>
          <a:xfrm>
            <a:off x="5601240" y="1830240"/>
            <a:ext cx="210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要求を実現するために必要な動作内容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それを実現するための仕組み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複雑にならないよう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4"/>
          <p:cNvSpPr/>
          <p:nvPr/>
        </p:nvSpPr>
        <p:spPr>
          <a:xfrm>
            <a:off x="6535080" y="460368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性能向上に必要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技術や戦略が十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15"/>
          <p:cNvSpPr/>
          <p:nvPr/>
        </p:nvSpPr>
        <p:spPr>
          <a:xfrm>
            <a:off x="7067880" y="58212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各モデルの内容が、相互に確認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追跡可能で一貫性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コンテンツ プレースホルダ 2"/>
          <p:cNvSpPr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大きく、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カテゴリから構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20"/>
          <p:cNvSpPr/>
          <p:nvPr/>
        </p:nvSpPr>
        <p:spPr>
          <a:xfrm>
            <a:off x="825840" y="26067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わかりやす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書け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21"/>
          <p:cNvSpPr/>
          <p:nvPr/>
        </p:nvSpPr>
        <p:spPr>
          <a:xfrm>
            <a:off x="2754720" y="5581800"/>
            <a:ext cx="15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新しい試みや日常の開発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出来ないことへのチャレン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モデル審査の方法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基準の各項目を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レベルで評価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各項目の評価レベルを点数化し、さらに重みを加味して、最終評価点を算出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評価点に応じて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　までの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段階のレベルを付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7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82F4-C6A3-4AF8-8F55-7675228590DF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各チームへのフィードバック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設計面と性能面に分けて、「良かった点」「気になった点」をそれぞれコメントとして記述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20C0-72D6-49B6-A09A-A796D7FB1AA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870120" y="2036880"/>
            <a:ext cx="77198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のモデル審査結果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590B-AAA6-4BFE-9523-B9B7CF0BB4FC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941400"/>
            <a:ext cx="5861160" cy="352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611520" y="3370320"/>
            <a:ext cx="5427720" cy="3112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1"/>
          <p:cNvSpPr/>
          <p:nvPr/>
        </p:nvSpPr>
        <p:spPr>
          <a:xfrm>
            <a:off x="6051600" y="2395440"/>
            <a:ext cx="8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7"/>
          <p:cNvSpPr/>
          <p:nvPr/>
        </p:nvSpPr>
        <p:spPr>
          <a:xfrm>
            <a:off x="5247720" y="154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ほぼすべてに渡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程度高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追加課題については、大きな差が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8"/>
          <p:cNvSpPr/>
          <p:nvPr/>
        </p:nvSpPr>
        <p:spPr>
          <a:xfrm>
            <a:off x="1819440" y="5106960"/>
            <a:ext cx="4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参加チームが多く、開催回数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多い地区ほど評価が高い傾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こ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0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間のモデル進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0FDF-D27A-4265-8CFB-D3BBCE255D6F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図 4" descr="modelcocept.jpg"/>
          <p:cNvPicPr/>
          <p:nvPr/>
        </p:nvPicPr>
        <p:blipFill>
          <a:blip r:embed="rId1"/>
          <a:stretch/>
        </p:blipFill>
        <p:spPr>
          <a:xfrm>
            <a:off x="168120" y="955800"/>
            <a:ext cx="8620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04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優勝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1220-61EC-4F39-81BC-2DB48817F685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660760" y="1332000"/>
            <a:ext cx="3944880" cy="31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22400" y="3514680"/>
            <a:ext cx="4244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226" name="グループ化 6"/>
          <p:cNvGrpSpPr/>
          <p:nvPr/>
        </p:nvGrpSpPr>
        <p:grpSpPr>
          <a:xfrm>
            <a:off x="4494240" y="3603600"/>
            <a:ext cx="4425840" cy="2577960"/>
            <a:chOff x="4494240" y="3603600"/>
            <a:chExt cx="4425840" cy="2577960"/>
          </a:xfrm>
        </p:grpSpPr>
        <p:pic>
          <p:nvPicPr>
            <p:cNvPr id="227" name="Picture 4" descr=""/>
            <p:cNvPicPr/>
            <p:nvPr/>
          </p:nvPicPr>
          <p:blipFill>
            <a:blip r:embed="rId3"/>
            <a:stretch/>
          </p:blipFill>
          <p:spPr>
            <a:xfrm>
              <a:off x="4494240" y="3603600"/>
              <a:ext cx="24984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"/>
            <p:cNvPicPr/>
            <p:nvPr/>
          </p:nvPicPr>
          <p:blipFill>
            <a:blip r:embed="rId4"/>
            <a:stretch/>
          </p:blipFill>
          <p:spPr>
            <a:xfrm>
              <a:off x="7156440" y="3891600"/>
              <a:ext cx="1763640" cy="21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8"/>
          <p:cNvSpPr/>
          <p:nvPr/>
        </p:nvSpPr>
        <p:spPr>
          <a:xfrm>
            <a:off x="626760" y="387684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281840" y="169380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906680" y="3479760"/>
            <a:ext cx="82368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dcterms:modified xsi:type="dcterms:W3CDTF">2012-02-17T09:49:45Z</dcterms:modified>
  <cp:revision>414</cp:revision>
  <dc:subject/>
  <dc:title>ETロボコン公式教材 （その１） モデルの描き方トレーニング</dc:title>
</cp:coreProperties>
</file>