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3062-7A0F-4683-8964-DF3D019DA513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A37B-8552-4F74-AAAB-F10E22F96B50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A85D-AEDE-4774-9535-52E2626DB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6CD1-F517-4997-8918-A8853EC04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48A0-5995-46A3-81C6-FA2EDDAAF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B028-EF6E-4502-8CF2-CB093E328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F3216-919A-4717-8574-7B0038A5D8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DCF5-E812-4A43-8DB2-40657EB763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91DF8-C080-4E35-8966-30293590A5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010F-9664-4B74-ABF6-300EA0D498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19CA-55F2-48AB-8DD0-CDDB6ED2FC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8864-27CA-43DC-BE3E-BAC4EB33B2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6E94-6392-4CDE-BA1F-4920D33E79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4E9A-2DDC-4461-A3FB-31AE866CB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0C30B-907C-4628-9399-191E4D47A7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EC5B5-27D0-48E2-A249-74DE46FD7C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EDBD8-DF7B-4169-8AF9-C3D51E844B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50E9-8BEC-4902-AE10-AACC4899EA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48A1-1BC1-44CF-804C-36DBA5F5B5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722-DC66-45B3-9461-00C7DFD3BC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E1D-7C49-4104-9392-C11362DC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7CB-58B8-4133-8F85-DF96639E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B7D-11E4-4C4C-A815-DD14D35E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BD9-10C2-4C00-A5D3-131D4976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4406-E82C-4F9C-A98D-D8F861F8FA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DBC-F007-4F7E-A99C-E80963F8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B45-FE1F-446E-A11E-6FBA110A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10D-FB54-40FC-9D1F-EF8767BD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5D8-87F1-448F-8C8C-C8668D9B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358-D42F-42CF-A8BE-6B87F48A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08D-1196-4150-9EB4-61605D28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0F7-72F3-41BC-9B1A-6ED6D601F4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07FE-D870-4F13-8722-093AC9708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09FB-26DD-4E6E-A70E-608A9379F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1570-C086-421E-AD17-B21A96B54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EED4-7F9D-4002-9EAC-2A0D2CC36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2D21-49D7-47A5-BD04-B76E611D0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C04A-4947-4DFF-BB5B-FD6773325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4A5B-DD59-47EA-A965-DAC7867FC862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テキスト ボックス 9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図 15" descr=""/>
          <p:cNvPicPr/>
          <p:nvPr/>
        </p:nvPicPr>
        <p:blipFill>
          <a:blip r:embed="rId3"/>
          <a:stretch/>
        </p:blipFill>
        <p:spPr>
          <a:xfrm>
            <a:off x="6746760" y="6526080"/>
            <a:ext cx="1792440" cy="281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149E-A0AE-4387-A388-4F22B3E16AC2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FBC6-CC9D-4B8F-879E-604002B25C5F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4"/>
          </p:nvPr>
        </p:nvSpPr>
        <p:spPr>
          <a:xfrm>
            <a:off x="63360" y="6586560"/>
            <a:ext cx="1044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6525-3A9C-47D8-9FB4-103E683CA8F5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B7EC-40D9-4C8A-A239-BE0FC6836B34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F386-6762-4A08-9E20-9E84B17D75D1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1080" y="622440"/>
            <a:ext cx="8391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24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　競技内容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（走行体、開発環境）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倒立振子制御は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ライブラリとして提供 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制御工学の知識が無くても走行させられます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機能を確認することができるサンプルプログラムも提供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xtOSEK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動車業界等で使用されてい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SEK RTOS (TOPPERS/ATK1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/JSP, TOPPERS/ASP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ご存知、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プロジェクト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μITRON 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TOS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開発支援スポンサー：アップウィンドテクノロジー・インコーポレイテッド様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製品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JOS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Java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銀河系はね馬チーム（株式会社ジャコム）が倒立振子制御ライブラリを移植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上記以外の開発環境で参加したい場合は、申込み前に要相談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開発環境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5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06E9-9AD8-4834-8190-4924A83C9839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04B8-D5E9-47B5-B316-B246AFBFBA76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1000" y="2276280"/>
            <a:ext cx="8729640" cy="32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的な競技内容は継続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シック・ステージとボーナス・ステージの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テージ制も継続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ボーナス・ステージの難所は変更を検討中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難所を継続する可能性もあり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は必須　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r 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採用時ボーナス付与とする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出現した尻尾走行は禁止しない。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5" name="テキスト ボックス 4"/>
          <p:cNvSpPr/>
          <p:nvPr/>
        </p:nvSpPr>
        <p:spPr>
          <a:xfrm>
            <a:off x="304920" y="1028880"/>
            <a:ext cx="8578800" cy="1191240"/>
          </a:xfrm>
          <a:prstGeom prst="rect">
            <a:avLst/>
          </a:prstGeom>
          <a:solidFill>
            <a:srgbClr val="89c3e5"/>
          </a:solidFill>
          <a:ln w="93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競技規約は、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競技規約を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スに内容変更する（詳細検討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5"/>
          <p:cNvSpPr/>
          <p:nvPr/>
        </p:nvSpPr>
        <p:spPr>
          <a:xfrm>
            <a:off x="660240" y="560700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の競技規約は、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4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月中旬に公開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465360" y="1197000"/>
            <a:ext cx="2416320" cy="3709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9" name="四角形吹き出し 10"/>
          <p:cNvSpPr/>
          <p:nvPr/>
        </p:nvSpPr>
        <p:spPr>
          <a:xfrm>
            <a:off x="6369120" y="3154320"/>
            <a:ext cx="1714320" cy="571680"/>
          </a:xfrm>
          <a:prstGeom prst="wedgeRectCallout">
            <a:avLst>
              <a:gd name="adj1" fmla="val -86412"/>
              <a:gd name="adj2" fmla="val 13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左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四角形吹き出し 11"/>
          <p:cNvSpPr/>
          <p:nvPr/>
        </p:nvSpPr>
        <p:spPr>
          <a:xfrm>
            <a:off x="1225440" y="3794040"/>
            <a:ext cx="1714680" cy="571680"/>
          </a:xfrm>
          <a:prstGeom prst="wedgeRectCallout">
            <a:avLst>
              <a:gd name="adj1" fmla="val 97231"/>
              <a:gd name="adj2" fmla="val -51180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右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四角形吹き出し 12"/>
          <p:cNvSpPr/>
          <p:nvPr/>
        </p:nvSpPr>
        <p:spPr>
          <a:xfrm>
            <a:off x="5611680" y="1149480"/>
            <a:ext cx="1486080" cy="568080"/>
          </a:xfrm>
          <a:prstGeom prst="wedgeRectCallout">
            <a:avLst>
              <a:gd name="adj1" fmla="val -68421"/>
              <a:gd name="adj2" fmla="val 73467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タッチ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四角形吹き出し 13"/>
          <p:cNvSpPr/>
          <p:nvPr/>
        </p:nvSpPr>
        <p:spPr>
          <a:xfrm>
            <a:off x="685800" y="2017800"/>
            <a:ext cx="1771560" cy="555480"/>
          </a:xfrm>
          <a:prstGeom prst="wedgeRectCallout">
            <a:avLst>
              <a:gd name="adj1" fmla="val 138101"/>
              <a:gd name="adj2" fmla="val 6110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ジャイロ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四角形吹き出し 14"/>
          <p:cNvSpPr/>
          <p:nvPr/>
        </p:nvSpPr>
        <p:spPr>
          <a:xfrm>
            <a:off x="6143760" y="4214880"/>
            <a:ext cx="1485720" cy="568080"/>
          </a:xfrm>
          <a:prstGeom prst="wedgeRectCallout">
            <a:avLst>
              <a:gd name="adj1" fmla="val -123467"/>
              <a:gd name="adj2" fmla="val -3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光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324000" y="4924440"/>
            <a:ext cx="86439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入力：　光センサ、ジャイロセンサ、超音波センサ、タッチ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　モータ（ロータリーエンコーダ値）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出力：　右輪駆動モータ、左輪駆動モータ、尻尾駆動モー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マイコン上のプログラムによる自律制御（ライントレー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四角形吹き出し 16"/>
          <p:cNvSpPr/>
          <p:nvPr/>
        </p:nvSpPr>
        <p:spPr>
          <a:xfrm>
            <a:off x="6578640" y="2055960"/>
            <a:ext cx="1714320" cy="714240"/>
          </a:xfrm>
          <a:prstGeom prst="wedgeRectCallout">
            <a:avLst>
              <a:gd name="adj1" fmla="val -123231"/>
              <a:gd name="adj2" fmla="val 7995"/>
            </a:avLst>
          </a:prstGeom>
          <a:solidFill>
            <a:srgbClr val="ffcccc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マイコン搭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7F8B-70A4-4058-84AB-8982AB3F3556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四角形吹き出し 17"/>
          <p:cNvSpPr/>
          <p:nvPr/>
        </p:nvSpPr>
        <p:spPr>
          <a:xfrm>
            <a:off x="754200" y="2776680"/>
            <a:ext cx="1714320" cy="571320"/>
          </a:xfrm>
          <a:prstGeom prst="wedgeRectCallout">
            <a:avLst>
              <a:gd name="adj1" fmla="val 119995"/>
              <a:gd name="adj2" fmla="val 1320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尻尾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四角形吹き出し 18"/>
          <p:cNvSpPr/>
          <p:nvPr/>
        </p:nvSpPr>
        <p:spPr>
          <a:xfrm>
            <a:off x="1305000" y="1044720"/>
            <a:ext cx="1941480" cy="569880"/>
          </a:xfrm>
          <a:prstGeom prst="wedgeRectCallout">
            <a:avLst>
              <a:gd name="adj1" fmla="val 102939"/>
              <a:gd name="adj2" fmla="val -2047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超音波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コー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23720" y="1214280"/>
            <a:ext cx="7448760" cy="5000760"/>
          </a:xfrm>
          <a:prstGeom prst="rect">
            <a:avLst/>
          </a:prstGeom>
          <a:ln w="0">
            <a:noFill/>
          </a:ln>
        </p:spPr>
      </p:pic>
      <p:sp>
        <p:nvSpPr>
          <p:cNvPr id="161" name="四角形吹き出し 4"/>
          <p:cNvSpPr/>
          <p:nvPr/>
        </p:nvSpPr>
        <p:spPr>
          <a:xfrm>
            <a:off x="5487840" y="1962000"/>
            <a:ext cx="1224000" cy="401760"/>
          </a:xfrm>
          <a:prstGeom prst="wedgeRectCallout">
            <a:avLst>
              <a:gd name="adj1" fmla="val -84111"/>
              <a:gd name="adj2" fmla="val 6254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四角形吹き出し 5"/>
          <p:cNvSpPr/>
          <p:nvPr/>
        </p:nvSpPr>
        <p:spPr>
          <a:xfrm>
            <a:off x="5803920" y="3479760"/>
            <a:ext cx="1008000" cy="430200"/>
          </a:xfrm>
          <a:prstGeom prst="wedgeRectCallout">
            <a:avLst>
              <a:gd name="adj1" fmla="val -84541"/>
              <a:gd name="adj2" fmla="val -768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四角形吹き出し 9"/>
          <p:cNvSpPr/>
          <p:nvPr/>
        </p:nvSpPr>
        <p:spPr>
          <a:xfrm>
            <a:off x="7743960" y="4849920"/>
            <a:ext cx="1187280" cy="503280"/>
          </a:xfrm>
          <a:prstGeom prst="wedgeRectCallout">
            <a:avLst>
              <a:gd name="adj1" fmla="val -104680"/>
              <a:gd name="adj2" fmla="val 24912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四角形吹き出し 10"/>
          <p:cNvSpPr/>
          <p:nvPr/>
        </p:nvSpPr>
        <p:spPr>
          <a:xfrm>
            <a:off x="5732640" y="6076800"/>
            <a:ext cx="2842920" cy="390600"/>
          </a:xfrm>
          <a:prstGeom prst="wedgeRectCallout">
            <a:avLst>
              <a:gd name="adj1" fmla="val -66726"/>
              <a:gd name="adj2" fmla="val -85143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四角形吹き出し 11"/>
          <p:cNvSpPr/>
          <p:nvPr/>
        </p:nvSpPr>
        <p:spPr>
          <a:xfrm>
            <a:off x="2563920" y="6070680"/>
            <a:ext cx="1187280" cy="387360"/>
          </a:xfrm>
          <a:prstGeom prst="wedgeRectCallout">
            <a:avLst>
              <a:gd name="adj1" fmla="val 106412"/>
              <a:gd name="adj2" fmla="val -26870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ゴ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四角形吹き出し 12"/>
          <p:cNvSpPr/>
          <p:nvPr/>
        </p:nvSpPr>
        <p:spPr>
          <a:xfrm>
            <a:off x="8264520" y="1022400"/>
            <a:ext cx="431640" cy="1224000"/>
          </a:xfrm>
          <a:prstGeom prst="wedgeRectCallout">
            <a:avLst>
              <a:gd name="adj1" fmla="val -126467"/>
              <a:gd name="adj2" fmla="val -149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スタ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スライド番号プレースホルダ 1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89B2-A131-4610-9B44-C00ED046BE2B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四角形吹き出し 13"/>
          <p:cNvSpPr/>
          <p:nvPr/>
        </p:nvSpPr>
        <p:spPr>
          <a:xfrm>
            <a:off x="8250120" y="2397240"/>
            <a:ext cx="432000" cy="1996920"/>
          </a:xfrm>
          <a:prstGeom prst="wedgeRectCallout">
            <a:avLst>
              <a:gd name="adj1" fmla="val -160037"/>
              <a:gd name="adj2" fmla="val -474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ガレージ・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四角形吹き出し 14"/>
          <p:cNvSpPr/>
          <p:nvPr/>
        </p:nvSpPr>
        <p:spPr>
          <a:xfrm>
            <a:off x="1325520" y="993600"/>
            <a:ext cx="1224000" cy="419400"/>
          </a:xfrm>
          <a:prstGeom prst="wedgeRectCallout">
            <a:avLst>
              <a:gd name="adj1" fmla="val 177370"/>
              <a:gd name="adj2" fmla="val 12110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坂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4360" y="1116000"/>
            <a:ext cx="460692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3960720" y="3852720"/>
            <a:ext cx="4384800" cy="2519640"/>
          </a:xfrm>
          <a:prstGeom prst="rect">
            <a:avLst/>
          </a:prstGeom>
          <a:ln w="0">
            <a:noFill/>
          </a:ln>
        </p:spPr>
      </p:pic>
      <p:sp>
        <p:nvSpPr>
          <p:cNvPr id="172" name="テキスト ボックス 5"/>
          <p:cNvSpPr/>
          <p:nvPr/>
        </p:nvSpPr>
        <p:spPr>
          <a:xfrm>
            <a:off x="5497560" y="15559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6"/>
          <p:cNvSpPr/>
          <p:nvPr/>
        </p:nvSpPr>
        <p:spPr>
          <a:xfrm>
            <a:off x="2843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5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7542-DD92-498B-960E-E9C4991A9F83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テキスト ボックス 5"/>
          <p:cNvSpPr/>
          <p:nvPr/>
        </p:nvSpPr>
        <p:spPr>
          <a:xfrm>
            <a:off x="4587840" y="13208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6"/>
          <p:cNvSpPr/>
          <p:nvPr/>
        </p:nvSpPr>
        <p:spPr>
          <a:xfrm>
            <a:off x="4067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743280" cy="2822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5576760" y="3376440"/>
            <a:ext cx="2595600" cy="315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1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24EA-799B-4682-8622-7A5F56A7D7E0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1223640"/>
            <a:ext cx="85726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各チームがインコース／アウトコースをそれぞれ１周し、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の合計タイム（リザルトタイム）を競う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リザルトタイム ＝ 走行タイム（実測値） ー ボーナスタイム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6280" y="2981160"/>
          <a:ext cx="8721720" cy="3413160"/>
        </p:xfrm>
        <a:graphic>
          <a:graphicData uri="http://schemas.openxmlformats.org/drawingml/2006/table">
            <a:tbl>
              <a:tblPr/>
              <a:tblGrid>
                <a:gridCol w="3318120"/>
                <a:gridCol w="2112840"/>
                <a:gridCol w="32907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対象（難所クリア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タイ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備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ルックアップゲート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出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倒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シング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ダブ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階段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ガレージ・イ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1FAF-F411-4702-9628-8458C5A3B7CE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ライントレースロボッ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G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MINDSTOR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NX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RM7 32bit CPU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光センサ、タッチセンサ、ジャイロ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超音波センサ搭載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ンコーダ内蔵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C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モータ駆動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用の尻尾モータを追加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通信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8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EB1A-1D83-4835-9839-578FDC353391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573960" y="1428840"/>
            <a:ext cx="218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6280" y="1060200"/>
            <a:ext cx="87948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尻尾走行の出現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状態を実現するために尻尾を追加したが、尻尾を降ろした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点接地状態での走行が出現！しかも速い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は尻尾走行を禁止しない（速さは魅力）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二輪倒立振子制御が必要になるエリア／難所を設定する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走行体は、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から変更しない方針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型／尻尾走行型のトランスフォーマー走行体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尻尾走行時のコースマットとの摩擦軽減のため、尻尾形状などのマイナー変更を検討中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1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9011-CF54-45DC-915B-D833279676A8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cp:lastPrinted>2012-02-15T10:47:20Z</cp:lastPrinted>
  <dcterms:modified xsi:type="dcterms:W3CDTF">2012-02-16T02:22:11Z</dcterms:modified>
  <cp:revision>458</cp:revision>
  <dc:subject/>
  <dc:title>ETロボコン公式教材 （その１） モデルの描き方トレーニング</dc:title>
</cp:coreProperties>
</file>